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6EB8-451F-4F3E-92C6-888310A75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4B3B-BF1D-4EE7-B2E4-B7504B1EA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15CE0-5D7E-4C4B-906F-C4B794630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4161-8576-4C72-8D9C-193D0B843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856D2-85C2-412F-88BC-26E7C8FC5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5C6D9-8D45-4B3A-BE99-3D9248F1A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C184F-CE49-45CC-862A-F7E4B4025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B6DBE-1DDE-4BFE-8248-146564BB2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493F-5AB4-4C90-870A-280C1D7D0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59AAC-AA17-41C4-9CD6-F5C4FEDCB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BF5A3-505D-412B-A3F2-DC499A005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C1624-6F35-4A7C-8C7E-DCCAA3B34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8A0BB-B219-4AAE-9B08-2A2A4E1F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E73E-E702-43AA-8A32-BAC0E9A2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D0544F-3B89-42EB-A91D-66279B756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AE842-59DE-45E6-8C84-A32F68AB40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181B1-0BE0-4207-9F86-2B26C7792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9D585-C265-44D4-B292-8438AB39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02EA8-2590-4F07-89ED-EBF70384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F1BB5-B1AC-4F55-81D5-9FFF7673C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FC26-AA8E-4903-8301-D2F2B707C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D9F0-CC92-4D3A-A34D-3A807E821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7C40-20E4-4B07-99A0-AD8066D94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34BBC-74C0-4A9C-85D1-42F8D8BB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ff99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ff99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B9B6F-549B-4341-87D6-A7D7848B1FBE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D8609-28B3-4A3C-AA39-BEBA9D3F61A1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ff9900"/>
          </a:soli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ff99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ff99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41672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600" spc="-1" strike="noStrike">
                <a:solidFill>
                  <a:srgbClr val="ffff00"/>
                </a:solidFill>
                <a:latin typeface="Verdana"/>
              </a:rPr>
              <a:t>SISTEMA Y SEGURO NACIONAL DE SALUD EN EL URUGUAY</a:t>
            </a:r>
            <a:endParaRPr b="0" lang="en-US" sz="36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87280" y="3284640"/>
            <a:ext cx="73454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2800" spc="-1" strike="noStrike">
                <a:solidFill>
                  <a:srgbClr val="ffffff"/>
                </a:solidFill>
                <a:latin typeface="Verdana"/>
              </a:rPr>
              <a:t>XIX  Reunión de Ministros de Salud del MERCOSUR y Estados Asociados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ffffff"/>
                </a:solidFill>
                <a:latin typeface="Verdana"/>
              </a:rPr>
              <a:t>Dra. María Julia Muñoz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2800" spc="-1" strike="noStrike">
                <a:solidFill>
                  <a:srgbClr val="ffffff"/>
                </a:solidFill>
                <a:latin typeface="Verdana"/>
              </a:rPr>
              <a:t>Noviembre 2005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755640" y="5300640"/>
            <a:ext cx="676440" cy="86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LEY DEL SISTEMA Y EL SEGURO NACIONAL DE SALUD</a:t>
            </a:r>
            <a:endParaRPr b="0" lang="en-US" sz="29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9280" y="1916280"/>
            <a:ext cx="8001000" cy="39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apítulo 6: La superintendencia de la Salud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La ley definirá la existencia de una superintendencia de salud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que conducirá el Seguro Nacional de Salud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Dicho organismo será público debe tener mayoría del Estado y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articipación social de IAMC, (prestadores, usuarios y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trabajadores)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LEY DEL SISTEMA Y EL SEGURO NACIONAL DE SALUD</a:t>
            </a:r>
            <a:endParaRPr b="0" lang="en-US" sz="29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Disposiciones transitorias: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476"/>
              </a:spcBef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n dirección al Seguro se plantea la ampliación de la base DISSE (familiares de activos privados, funcionarios públicos y sus familiares), de manera de provocar un crecimiento de la formalización y por ende del acceso de usuarios al sistema de Instituciones de Asistencia Médica Colectiva (IAMC)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spcBef>
                <a:spcPts val="624"/>
              </a:spcBef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La rendición de cuentas transferirá los recursos presupuestados en salud de los diferentes incisos al fondo publico constituido, por la Ley.</a:t>
            </a: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560" y="304920"/>
            <a:ext cx="839016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3100" spc="-1" strike="noStrike">
                <a:solidFill>
                  <a:srgbClr val="ffff00"/>
                </a:solidFill>
                <a:latin typeface="Verdana"/>
              </a:rPr>
              <a:t>FONDO PUBLICO OBLIGATORIO (F.P.O.)</a:t>
            </a:r>
            <a:endParaRPr b="0" lang="en-US" sz="31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1628640"/>
            <a:ext cx="2590560" cy="1943280"/>
          </a:xfrm>
          <a:prstGeom prst="ellipse">
            <a:avLst/>
          </a:prstGeom>
          <a:solidFill>
            <a:srgbClr val="ffff99"/>
          </a:solidFill>
          <a:ln cap="rnd" w="5724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cc0000"/>
                </a:solidFill>
                <a:latin typeface="Arial Unicode MS"/>
              </a:rPr>
              <a:t>Fondo Publico Obligato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cc0000"/>
                </a:solidFill>
                <a:latin typeface="Arial Unicode MS"/>
              </a:rPr>
              <a:t>Aporte del Estad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cc0000"/>
                </a:solidFill>
                <a:latin typeface="Arial Unicode MS"/>
              </a:rPr>
              <a:t>Aporte de los Hogar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cc0000"/>
                </a:solidFill>
                <a:latin typeface="Arial Unicode MS"/>
              </a:rPr>
              <a:t>Aporte de las Empresa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72360" y="4510080"/>
            <a:ext cx="2590560" cy="1943280"/>
          </a:xfrm>
          <a:prstGeom prst="ellipse">
            <a:avLst/>
          </a:prstGeom>
          <a:solidFill>
            <a:srgbClr val="ffff99"/>
          </a:solidFill>
          <a:ln cap="rnd" w="5724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800" spc="-1" strike="noStrike">
                <a:solidFill>
                  <a:srgbClr val="cc0000"/>
                </a:solidFill>
                <a:latin typeface="Arial Unicode MS"/>
              </a:rPr>
              <a:t>USUARIO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H="1">
            <a:off x="2268360" y="3357720"/>
            <a:ext cx="1440000" cy="1295280"/>
          </a:xfrm>
          <a:prstGeom prst="line">
            <a:avLst/>
          </a:prstGeom>
          <a:ln w="2556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364000" y="3429000"/>
            <a:ext cx="1440000" cy="122400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5373720"/>
            <a:ext cx="3600720" cy="0"/>
          </a:xfrm>
          <a:prstGeom prst="line">
            <a:avLst/>
          </a:prstGeom>
          <a:ln w="25560">
            <a:solidFill>
              <a:srgbClr val="ffffff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2373000">
            <a:off x="5916240" y="3665160"/>
            <a:ext cx="971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ff"/>
                </a:solidFill>
                <a:latin typeface="Verdana"/>
              </a:rPr>
              <a:t>Pago po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ff"/>
                </a:solidFill>
                <a:latin typeface="Verdana"/>
              </a:rPr>
              <a:t>ingres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19061400">
            <a:off x="1722960" y="3388680"/>
            <a:ext cx="1896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ff"/>
                </a:solidFill>
                <a:latin typeface="Verdana"/>
              </a:rPr>
              <a:t>Pago por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ff"/>
                </a:solidFill>
                <a:latin typeface="Verdana"/>
              </a:rPr>
              <a:t>Capita, Riesg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400" spc="-1" strike="noStrike">
                <a:solidFill>
                  <a:srgbClr val="ffffff"/>
                </a:solidFill>
                <a:latin typeface="Verdana"/>
              </a:rPr>
              <a:t>y Nivel de Atenció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508640"/>
            <a:ext cx="2590920" cy="1942920"/>
          </a:xfrm>
          <a:prstGeom prst="ellipse">
            <a:avLst/>
          </a:prstGeom>
          <a:solidFill>
            <a:srgbClr val="ffff99"/>
          </a:solidFill>
          <a:ln cap="rnd" w="57240">
            <a:solidFill>
              <a:srgbClr val="ff99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cc0000"/>
                </a:solidFill>
                <a:latin typeface="Arial Unicode MS"/>
              </a:rPr>
              <a:t>INSTITUCION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cc0000"/>
                </a:solidFill>
                <a:latin typeface="Arial Unicode MS"/>
              </a:rPr>
              <a:t>Integrado al Sistema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cc0000"/>
                </a:solidFill>
                <a:latin typeface="Arial Unicode MS"/>
              </a:rPr>
              <a:t>Nacional de Salud Públic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cc0000"/>
                </a:solidFill>
                <a:latin typeface="Arial Unicode MS"/>
              </a:rPr>
              <a:t>y Privado sin fine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UY" sz="1600" spc="-1" strike="noStrike">
                <a:solidFill>
                  <a:srgbClr val="cc0000"/>
                </a:solidFill>
                <a:latin typeface="Arial Unicode MS"/>
              </a:rPr>
              <a:t>de lucr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917800" y="5564160"/>
            <a:ext cx="333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UY" sz="1600" spc="-1" strike="noStrike">
                <a:solidFill>
                  <a:srgbClr val="ffcc00"/>
                </a:solidFill>
                <a:latin typeface="Arial Unicode MS"/>
              </a:rPr>
              <a:t>BRINDAN ATENCION INTEGRAL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 flipH="1" flipV="1" rot="16200000">
            <a:off x="5752440" y="705240"/>
            <a:ext cx="304920" cy="2514600"/>
          </a:xfrm>
          <a:custGeom>
            <a:avLst/>
            <a:gdLst>
              <a:gd name="textAreaLeft" fmla="*/ 194760 w 304920"/>
              <a:gd name="textAreaRight" fmla="*/ 305280 w 304920"/>
              <a:gd name="textAreaTop" fmla="*/ 65520 h 2514600"/>
              <a:gd name="textAreaBottom" fmla="*/ 2449080 h 2514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H="1">
            <a:off x="5715000" y="5094360"/>
            <a:ext cx="1881360" cy="10778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370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TAPAS DEL SEGURO NACIONAL DE SALUD</a:t>
            </a:r>
            <a:endParaRPr b="0" lang="en-US" sz="24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08000" y="1843200"/>
            <a:ext cx="1727280" cy="158436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052720" y="1844640"/>
            <a:ext cx="1800000" cy="1511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94200" y="2087640"/>
            <a:ext cx="1657440" cy="122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940360" y="2058840"/>
            <a:ext cx="1871640" cy="115272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40480" y="4227480"/>
            <a:ext cx="1668600" cy="15112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2131920"/>
            <a:ext cx="158436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gener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33720" y="1987560"/>
            <a:ext cx="1603080" cy="62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 públicos de E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995640" y="2346480"/>
            <a:ext cx="165744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guridad Soc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2131920"/>
            <a:ext cx="190512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otas individu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4444920"/>
            <a:ext cx="1676520" cy="13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sto de cuot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dividu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4572000"/>
            <a:ext cx="2136960" cy="13860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895480" y="4495680"/>
            <a:ext cx="955800" cy="124632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4571640" y="4038480"/>
            <a:ext cx="228600" cy="190512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5181120" y="4038480"/>
            <a:ext cx="1752840" cy="198144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438280" y="5715000"/>
            <a:ext cx="3495960" cy="954000"/>
          </a:xfrm>
          <a:prstGeom prst="ellipse">
            <a:avLst/>
          </a:prstGeom>
          <a:solidFill>
            <a:srgbClr val="ff99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62320" y="5791320"/>
            <a:ext cx="3733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FONDO PÚBLICO OBLIGATOR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H="1" flipV="1" rot="16200000">
            <a:off x="2044440" y="708480"/>
            <a:ext cx="300240" cy="2016360"/>
          </a:xfrm>
          <a:custGeom>
            <a:avLst/>
            <a:gdLst>
              <a:gd name="textAreaLeft" fmla="*/ 192240 w 300240"/>
              <a:gd name="textAreaRight" fmla="*/ 300600 w 300240"/>
              <a:gd name="textAreaTop" fmla="*/ 52560 h 2016360"/>
              <a:gd name="textAreaBottom" fmla="*/ 1963800 h 20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914400" y="1057320"/>
            <a:ext cx="2664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ª Eta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Primer Semestre de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800600" y="1285920"/>
            <a:ext cx="24480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ª Eta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gundo Semestre de 200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740720" y="3048120"/>
            <a:ext cx="14032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Arial"/>
              </a:rPr>
              <a:t>3ª Eta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Arial"/>
              </a:rPr>
              <a:t>Se adecua a la reforma tributari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79280" y="3067200"/>
            <a:ext cx="1656000" cy="1504800"/>
          </a:xfrm>
          <a:prstGeom prst="rect">
            <a:avLst/>
          </a:prstGeom>
          <a:solidFill>
            <a:srgbClr val="598600"/>
          </a:solidFill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MSP, Militar, Policial, Clínicas, Cuotas de Univ. Judiciales, maestros, etc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282920" y="3240000"/>
            <a:ext cx="1079640" cy="792360"/>
          </a:xfrm>
          <a:prstGeom prst="rect">
            <a:avLst/>
          </a:prstGeom>
          <a:solidFill>
            <a:srgbClr val="598600"/>
          </a:solidFill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DISSE y cajas de auxilio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940360" y="2995560"/>
            <a:ext cx="1800360" cy="1036800"/>
          </a:xfrm>
          <a:prstGeom prst="rect">
            <a:avLst/>
          </a:prstGeom>
          <a:solidFill>
            <a:srgbClr val="598600"/>
          </a:solidFill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incluibles en seg. Social (públicos</a:t>
            </a:r>
            <a:r>
              <a:rPr b="0" lang="es-MX" sz="1500" spc="-1" strike="noStrike">
                <a:solidFill>
                  <a:srgbClr val="ffffff"/>
                </a:solidFill>
                <a:latin typeface="Arial"/>
              </a:rPr>
              <a:t> y su familia</a:t>
            </a:r>
            <a:r>
              <a:rPr b="0" lang="es-ES" sz="1500" spc="-1" strike="noStrike">
                <a:solidFill>
                  <a:srgbClr val="ffffff"/>
                </a:solidFill>
                <a:latin typeface="Arial"/>
              </a:rPr>
              <a:t>, fam. de activos privados)</a:t>
            </a: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flipH="1" flipV="1" rot="16200000">
            <a:off x="8092080" y="3490560"/>
            <a:ext cx="304920" cy="1296720"/>
          </a:xfrm>
          <a:custGeom>
            <a:avLst/>
            <a:gdLst>
              <a:gd name="textAreaLeft" fmla="*/ 194760 w 304920"/>
              <a:gd name="textAreaRight" fmla="*/ 305280 w 30492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92400" y="3211560"/>
            <a:ext cx="1617480" cy="1284120"/>
          </a:xfrm>
          <a:prstGeom prst="rect">
            <a:avLst/>
          </a:prstGeom>
          <a:solidFill>
            <a:srgbClr val="598600"/>
          </a:solidFill>
          <a:ln w="3816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(Serv. De salud ANCAP, BHU. Pago de cuotas y otros por entes.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LEY DEL SISTEMA Y EL SEGURO NACIONAL DE SALUD</a:t>
            </a:r>
            <a:endParaRPr b="0" lang="en-US" sz="29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68000" y="1915920"/>
            <a:ext cx="867564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Envío al Parlamento de la ley que configure el Sistema Nacional Integrado de 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Salud y el Seguro Nacional de Salud.  </a:t>
            </a:r>
            <a:r>
              <a:rPr b="0" lang="es-ES" sz="1600" spc="-1" strike="noStrike" u="sng">
                <a:solidFill>
                  <a:srgbClr val="ffffff"/>
                </a:solidFill>
                <a:uFillTx/>
                <a:latin typeface="Verdana"/>
              </a:rPr>
              <a:t>Plazo de envío:</a:t>
            </a: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 Marzo de 2006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troducción: Líneas Estratégicas del Sistema Integr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spcAft>
                <a:spcPts val="451"/>
              </a:spcAft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Cambio del Modelo de Atención y Gestión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Fortalecimiento del Primer Nivel de Atención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strategia del Atención Primaria en Salud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centralización Regionalización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76"/>
              </a:spcBef>
              <a:spcAft>
                <a:spcPts val="476"/>
              </a:spcAft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Complementariedad Público Privada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LEY DEL SISTEMA Y EL SEGURO NACIONAL DE SALUD</a:t>
            </a:r>
            <a:endParaRPr b="0" lang="en-US" sz="29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9640" y="1915920"/>
            <a:ext cx="8064720" cy="38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Verdana"/>
              </a:rPr>
              <a:t>Capítulo 1: Derechos de los Usuarios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Los derechos de los usuarios en relación a las prestaciones que deben recibir en cantidad y calidad adecuadas y auditadas por el  Ministerio de Salud  Públic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Los derechos a la elección por parte de éstos respecto a los prestadores integrales y los criterios de la libre movilidad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LEY DEL SISTEMA Y EL SEGURO NACIONAL DE SALUD</a:t>
            </a:r>
            <a:endParaRPr b="0" lang="en-US" sz="29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29600" cy="43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ffff"/>
                </a:solidFill>
                <a:latin typeface="Verdana"/>
              </a:rPr>
              <a:t>Capítulo 2: Financiamiento Fondo Público Obligator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u constitución a partir de la ley del Sistema y del Seguro con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carácter de único y obligatorio sobre la base de:</a:t>
            </a: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porte de rentas generales tomando como base los actuales aportes del tesoro nacional a prestadores de salud (MSP; Policial, Militar, etc.) y los aportes a organismos que pagan cuotas mutuales (Universidad, ANEP, etc.)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porte de los hogares como porcentaje de sus ingresos, incluido en el Impuesto a la Renta de las Personas Físicas, de la ley de Reforma Tributaria, con alicuotas  a adicionar alas incluidas en dicha reforma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spcAft>
                <a:spcPts val="901"/>
              </a:spcAft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porte de las empresas públicas y privadas a través de aportes patronales a la seguridad social en las tasas vigentes para empresas privadas (5% sobre masa salarial)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LEY DEL SISTEMA Y EL SEGURO NACIONAL DE SALUD</a:t>
            </a:r>
            <a:endParaRPr b="0" lang="en-US" sz="29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37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Capítulo 3: Los mecanismos de reembolso del Fond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El Fondo Público reembolsará en sistema de prepago a los prestadores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públicos y privados de salud según tres criterios: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por cápitas, es decir por número de personas incluidas en cada prestador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según factores de riesgo, incluyendo en la primera etapa edad y sexo, es decir habrá diferentes cuotas según la combinación de edad y sexo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-361800">
              <a:lnSpc>
                <a:spcPct val="80000"/>
              </a:lnSpc>
              <a:spcBef>
                <a:spcPts val="425"/>
              </a:spcBef>
              <a:spcAft>
                <a:spcPts val="425"/>
              </a:spcAft>
              <a:buClr>
                <a:srgbClr val="ff99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por mecanismos de premio al cumplimiento de las metas prestacionales, fundamentalmente vinculadas en la primera etapa al fortalecimiento del primer nivel de atención (trazadores de resultados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La cuota fija que resulta en cada tramo de edad y sexo será un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porcentaje del total del pago (por ejemplo 80%) y el restante porcentaje 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se adjudicará al cumplimiento de cada meta.(por ejemplo el 20%)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618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LEY DEL SISTEMA Y EL SEGURO NACIONAL DE SALUD</a:t>
            </a:r>
            <a:endParaRPr b="0" lang="en-US" sz="29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90040" y="1844280"/>
            <a:ext cx="80852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Capítulo 4: Los mecanismos de regulación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Verdana"/>
              </a:rPr>
              <a:t>entre  los prestadore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Esta ley incluirá los marcos normativos que posibiliten, dinamicen y potencien las relación de complementación asistencial entre prestadores integrales y entre integrales y parciales, asimismo como regulará las Relaciones respecto a los proveedores de bienes y servicios (medicamentos, etc.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Los prestadores parciales se asociarán con prestadores integrales y cobrarán a través de ellos, mediante mecanismos de regulación de precio y condiciones de pago incluidas en la reglamentación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Verdana"/>
              </a:rPr>
              <a:t>Se trata de fortalecer las capacidades instaladas, racionalizar el uso de dichas capacidades y generar mecanismos tipo “cuenta corriente” para establecer la complementariedad entre prestadores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00"/>
                </a:solidFill>
                <a:latin typeface="Verdana"/>
              </a:rPr>
              <a:t>LEY DEL SISTEMA Y EL SEGURO NACIONAL DE SALUD</a:t>
            </a:r>
            <a:endParaRPr b="0" lang="en-US" sz="2900" spc="-1" strike="noStrike">
              <a:solidFill>
                <a:srgbClr val="ffff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12360" y="1850760"/>
            <a:ext cx="799164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Capítulo 5: El Plan Integral de Prestaciones (PIP)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l Plan Integral de Prestaciones (PIP) es el conjunto de obligaciones de los prestadores integrales, las que serán definidas en base a procedimiento e indicadores de cumplimiento transparentes tanto en  la cantidad de las prestaciones y procesos como en la calidad del  servici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a ley definirá el marco general de dicho PIP y la reglamentación  ordenará taxativamente dichas oblig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En términos generales el PIP debe ir de menos a más, es decir partir de lo que hoy dan las IAMCs más la emergencia, más componentes  de salud bucal y mental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8T15:58:08Z</dcterms:created>
  <dc:creator>Cecilia Castillo</dc:creator>
  <dc:description/>
  <dc:language>en-US</dc:language>
  <cp:lastModifiedBy>visita</cp:lastModifiedBy>
  <dcterms:modified xsi:type="dcterms:W3CDTF">2005-11-11T15:42:48Z</dcterms:modified>
  <cp:revision>18</cp:revision>
  <dc:subject/>
  <dc:title>SISTEMA Y SEGURO NACIONAL DE SALUD EN EL URUGUAY</dc:title>
</cp:coreProperties>
</file>