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08A46-B90A-4E62-A7F0-CFDA23DE5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09222-EE1F-4525-9E78-233C5738D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A23C5-2457-4090-A79C-FA63CBEDE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1240D-622E-42F9-B115-43F53BB1F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3EA40-CF04-496C-8FF3-4EC98A735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5AA14-2055-4329-8A3D-5F1781833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0623E-BD6F-4BEB-9C16-52C1CE7A5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265E7-4FA0-42FD-9281-7943F5AD1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BED9D-5615-4E29-A246-D0DB7CE78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4E8AD-81D1-4C97-B53C-B1F857998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9B92-E6FE-4DB6-AEE6-C74CC6069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E73B-F31D-475C-A454-48D14049D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F9E2-A6EB-44F9-AA56-EBD12575442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mailto:marcelo@fcs.edu.uy" TargetMode="External"/><Relationship Id="rId2" Type="http://schemas.openxmlformats.org/officeDocument/2006/relationships/hyperlink" Target="mailto:marcelo@fcs.edu.uy" TargetMode="External"/><Relationship Id="rId3" Type="http://schemas.openxmlformats.org/officeDocument/2006/relationships/hyperlink" Target="mailto:marcelo@fcs.edu.uy"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76176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Arial"/>
                <a:ea typeface="바탕"/>
              </a:rPr>
              <a:t>“</a:t>
            </a:r>
            <a:r>
              <a:rPr b="1" lang="es-AR" sz="3200" spc="-1" strike="noStrike">
                <a:solidFill>
                  <a:srgbClr val="ffffff"/>
                </a:solidFill>
                <a:latin typeface="Arial"/>
                <a:ea typeface="바탕"/>
              </a:rPr>
              <a:t>Determinantes Sociales del </a:t>
            </a:r>
            <a:br>
              <a:rPr sz="3200"/>
            </a:br>
            <a:r>
              <a:rPr b="1" lang="es-AR" sz="3200" spc="-1" strike="noStrike">
                <a:solidFill>
                  <a:srgbClr val="ffffff"/>
                </a:solidFill>
                <a:latin typeface="Arial"/>
                <a:ea typeface="바탕"/>
              </a:rPr>
              <a:t>consumo de  tabaco.”</a:t>
            </a:r>
            <a:br>
              <a:rPr sz="3200"/>
            </a:br>
            <a:r>
              <a:rPr b="1" lang="es-AR" sz="2400" spc="-1" strike="noStrike">
                <a:solidFill>
                  <a:srgbClr val="ffffff"/>
                </a:solidFill>
                <a:latin typeface="Arial"/>
                <a:ea typeface="바탕"/>
              </a:rPr>
              <a:t> </a:t>
            </a:r>
            <a:br>
              <a:rPr sz="2400"/>
            </a:br>
            <a:r>
              <a:rPr b="1" lang="es-AR" sz="2400" spc="-1" strike="noStrike">
                <a:solidFill>
                  <a:srgbClr val="ffffff"/>
                </a:solidFill>
                <a:latin typeface="Arial"/>
                <a:ea typeface="바탕"/>
              </a:rPr>
              <a:t>Dr. Marcelo Boado - Dra. Geyser Margel </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533520" y="2971440"/>
            <a:ext cx="8076960" cy="304812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Tahoma"/>
                <a:ea typeface="바탕"/>
              </a:rPr>
              <a:t>Conveni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Tahoma"/>
                <a:ea typeface="바탕"/>
              </a:rPr>
              <a:t>Ministerio de Salud Pública – Universidad de la República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00"/>
                </a:solidFill>
                <a:latin typeface="Tahoma"/>
                <a:ea typeface="Tahoma"/>
              </a:rPr>
              <a:t>Programa Nacional para el Control del Tabac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Tahoma"/>
                <a:ea typeface="Tahoma"/>
              </a:rPr>
              <a:t>Facultad de Ciencias Sociales: Departamento de Sociología.</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Tahoma"/>
                <a:ea typeface="Tahoma"/>
              </a:rPr>
              <a: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Tahoma"/>
                <a:ea typeface="Tahoma"/>
              </a:rPr>
              <a:t>Apoyo: Organización Panamericana de la Salud</a:t>
            </a:r>
            <a:r>
              <a:rPr b="0" lang="es-ES" sz="2000" spc="-1" strike="noStrike">
                <a:solidFill>
                  <a:srgbClr val="ffff00"/>
                </a:solidFill>
                <a:latin typeface="Times New Roman"/>
              </a:rPr>
              <a:t>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endParaRPr b="0" lang="en-US" sz="2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	</a:t>
            </a:r>
            <a:r>
              <a:rPr b="0" lang="es-ES" sz="2000" spc="-1" strike="noStrike">
                <a:solidFill>
                  <a:srgbClr val="ffff00"/>
                </a:solidFill>
                <a:latin typeface="Times New Roman"/>
              </a:rPr>
              <a:t>	</a:t>
            </a:r>
            <a:r>
              <a:rPr b="0" lang="es-ES" sz="2000" spc="-1" strike="noStrike">
                <a:solidFill>
                  <a:srgbClr val="ffff00"/>
                </a:solidFill>
                <a:latin typeface="Times New Roman"/>
              </a:rPr>
              <a:t>	</a:t>
            </a:r>
            <a:r>
              <a:rPr b="0" lang="es-ES" sz="2000" spc="-1" strike="noStrike">
                <a:solidFill>
                  <a:srgbClr val="ffff00"/>
                </a:solidFill>
                <a:latin typeface="Times New Roman"/>
              </a:rPr>
              <a:t>       </a:t>
            </a:r>
            <a:r>
              <a:rPr b="1" lang="es-ES" sz="1800" spc="-1" strike="noStrike">
                <a:solidFill>
                  <a:srgbClr val="ffff00"/>
                </a:solidFill>
                <a:latin typeface="Arial"/>
              </a:rPr>
              <a:t>Montevideo, 31 de Mayo de 200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p:nvPr/>
        </p:nvSpPr>
        <p:spPr>
          <a:xfrm>
            <a:off x="990720" y="533520"/>
            <a:ext cx="739116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ea typeface="Tahoma"/>
              </a:rPr>
              <a:t>Objetiv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Tahoma"/>
              </a:rPr>
              <a:t>Exploración, identificación y análisis de referentes socioculturales y sociales que sustentan prácticas de consumo de tabaco en la actualidad.</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Tahoma"/>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ea typeface="Tahoma"/>
              </a:rPr>
              <a:t>Univers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Tahoma"/>
              </a:rPr>
              <a:t>Habitantes de Montevideo y Capitales departamentales de Salto y Maldonado, de ambos sexos, de 12 a 65 años de edad,  fumadores y no fumadores, de diversos niveles sociales y educativ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ahoma"/>
                <a:ea typeface="Tahoma"/>
              </a:rPr>
              <a:t>Métod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Sub-Población de 16 a. y mas: Grupos de Discus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Sub-Población 12-15 a.: Entrevistas focaliza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ALGUNAS DEFINICIONES:</a:t>
            </a:r>
            <a:endParaRPr b="0" lang="en-US" sz="2400" spc="-1" strike="noStrike">
              <a:solidFill>
                <a:srgbClr val="000000"/>
              </a:solidFill>
              <a:latin typeface="Times New Roman"/>
            </a:endParaRPr>
          </a:p>
        </p:txBody>
      </p:sp>
      <p:grpSp>
        <p:nvGrpSpPr>
          <p:cNvPr id="45" name=""/>
          <p:cNvGrpSpPr/>
          <p:nvPr/>
        </p:nvGrpSpPr>
        <p:grpSpPr>
          <a:xfrm>
            <a:off x="533520" y="838080"/>
            <a:ext cx="8381520" cy="5562720"/>
            <a:chOff x="533520" y="838080"/>
            <a:chExt cx="8381520" cy="5562720"/>
          </a:xfrm>
        </p:grpSpPr>
        <p:grpSp>
          <p:nvGrpSpPr>
            <p:cNvPr id="46" name=""/>
            <p:cNvGrpSpPr/>
            <p:nvPr/>
          </p:nvGrpSpPr>
          <p:grpSpPr>
            <a:xfrm>
              <a:off x="540000" y="842040"/>
              <a:ext cx="8367480" cy="5554440"/>
              <a:chOff x="540000" y="842040"/>
              <a:chExt cx="8367480" cy="5554440"/>
            </a:xfrm>
          </p:grpSpPr>
          <p:grpSp>
            <p:nvGrpSpPr>
              <p:cNvPr id="47" name=""/>
              <p:cNvGrpSpPr/>
              <p:nvPr/>
            </p:nvGrpSpPr>
            <p:grpSpPr>
              <a:xfrm>
                <a:off x="540000" y="842040"/>
                <a:ext cx="8367480" cy="542520"/>
                <a:chOff x="540000" y="842040"/>
                <a:chExt cx="8367480" cy="542520"/>
              </a:xfrm>
            </p:grpSpPr>
            <p:sp>
              <p:nvSpPr>
                <p:cNvPr id="48" name=""/>
                <p:cNvSpPr/>
                <p:nvPr/>
              </p:nvSpPr>
              <p:spPr>
                <a:xfrm>
                  <a:off x="603000" y="842040"/>
                  <a:ext cx="8241120" cy="54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ahoma"/>
                    </a:rPr>
                    <a:t>Adultos  (20a.  y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540000" y="842040"/>
                  <a:ext cx="836748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 name=""/>
              <p:cNvGrpSpPr/>
              <p:nvPr/>
            </p:nvGrpSpPr>
            <p:grpSpPr>
              <a:xfrm>
                <a:off x="540000" y="1384560"/>
                <a:ext cx="4183560" cy="959040"/>
                <a:chOff x="540000" y="1384560"/>
                <a:chExt cx="4183560" cy="959040"/>
              </a:xfrm>
            </p:grpSpPr>
            <p:sp>
              <p:nvSpPr>
                <p:cNvPr id="51" name=""/>
                <p:cNvSpPr/>
                <p:nvPr/>
              </p:nvSpPr>
              <p:spPr>
                <a:xfrm>
                  <a:off x="603000" y="1384560"/>
                  <a:ext cx="4057200" cy="959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FUMADOR:</a:t>
                  </a:r>
                  <a:r>
                    <a:rPr b="0" lang="en-US" sz="1600" spc="-1" strike="noStrike">
                      <a:solidFill>
                        <a:srgbClr val="ffffff"/>
                      </a:solidFill>
                      <a:latin typeface="Tahoma"/>
                      <a:ea typeface="Tahoma"/>
                    </a:rPr>
                    <a:t> Es alguien que al momento de la encuesta fuma algún producto de tabaco ya sea diaria o ocasionalment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
                <p:cNvSpPr/>
                <p:nvPr/>
              </p:nvSpPr>
              <p:spPr>
                <a:xfrm>
                  <a:off x="540000" y="1384560"/>
                  <a:ext cx="4183560" cy="95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4723920" y="1384560"/>
                <a:ext cx="4183560" cy="959040"/>
                <a:chOff x="4723920" y="1384560"/>
                <a:chExt cx="4183560" cy="959040"/>
              </a:xfrm>
            </p:grpSpPr>
            <p:sp>
              <p:nvSpPr>
                <p:cNvPr id="54" name=""/>
                <p:cNvSpPr/>
                <p:nvPr/>
              </p:nvSpPr>
              <p:spPr>
                <a:xfrm>
                  <a:off x="4786920" y="1384560"/>
                  <a:ext cx="4057200" cy="959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NO FUMADOR: Es aquel que al momento de la encuesta no fum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
                <p:cNvSpPr/>
                <p:nvPr/>
              </p:nvSpPr>
              <p:spPr>
                <a:xfrm>
                  <a:off x="4723920" y="1384560"/>
                  <a:ext cx="4183560" cy="95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540000" y="2343600"/>
                <a:ext cx="4183560" cy="816120"/>
                <a:chOff x="540000" y="2343600"/>
                <a:chExt cx="4183560" cy="816120"/>
              </a:xfrm>
            </p:grpSpPr>
            <p:sp>
              <p:nvSpPr>
                <p:cNvPr id="57" name=""/>
                <p:cNvSpPr/>
                <p:nvPr/>
              </p:nvSpPr>
              <p:spPr>
                <a:xfrm>
                  <a:off x="603000" y="2343600"/>
                  <a:ext cx="4057200" cy="816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HABITUAL:</a:t>
                  </a:r>
                  <a:r>
                    <a:rPr b="0" lang="en-US" sz="1600" spc="-1" strike="noStrike">
                      <a:solidFill>
                        <a:srgbClr val="ffffff"/>
                      </a:solidFill>
                      <a:latin typeface="Tahoma"/>
                      <a:ea typeface="Tahoma"/>
                    </a:rPr>
                    <a:t>  adulto que fuma por lo menos 1 cigarrillo/día durante los últimos 6 mes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540000" y="2343600"/>
                  <a:ext cx="4183560" cy="81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4723920" y="2343600"/>
                <a:ext cx="4183560" cy="816120"/>
                <a:chOff x="4723920" y="2343600"/>
                <a:chExt cx="4183560" cy="816120"/>
              </a:xfrm>
            </p:grpSpPr>
            <p:sp>
              <p:nvSpPr>
                <p:cNvPr id="60" name=""/>
                <p:cNvSpPr/>
                <p:nvPr/>
              </p:nvSpPr>
              <p:spPr>
                <a:xfrm>
                  <a:off x="4786920" y="2343600"/>
                  <a:ext cx="4057200" cy="816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NO FUMADOR:</a:t>
                  </a:r>
                  <a:r>
                    <a:rPr b="0" lang="en-US" sz="1600" spc="-1" strike="noStrike">
                      <a:solidFill>
                        <a:srgbClr val="ffffff"/>
                      </a:solidFill>
                      <a:latin typeface="Tahoma"/>
                      <a:ea typeface="Tahoma"/>
                    </a:rPr>
                    <a:t> quien nunca fumó o fumó menos de 100 cigarrillos en toda su vid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 name=""/>
                <p:cNvSpPr/>
                <p:nvPr/>
              </p:nvSpPr>
              <p:spPr>
                <a:xfrm>
                  <a:off x="4723920" y="2343600"/>
                  <a:ext cx="4183560" cy="81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540000" y="3159720"/>
                <a:ext cx="4183560" cy="816120"/>
                <a:chOff x="540000" y="3159720"/>
                <a:chExt cx="4183560" cy="816120"/>
              </a:xfrm>
            </p:grpSpPr>
            <p:sp>
              <p:nvSpPr>
                <p:cNvPr id="63" name=""/>
                <p:cNvSpPr/>
                <p:nvPr/>
              </p:nvSpPr>
              <p:spPr>
                <a:xfrm>
                  <a:off x="603000" y="3159720"/>
                  <a:ext cx="4057200" cy="816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OCASIONAL: </a:t>
                  </a:r>
                  <a:r>
                    <a:rPr b="0" lang="en-US" sz="1600" spc="-1" strike="noStrike">
                      <a:solidFill>
                        <a:srgbClr val="ffffff"/>
                      </a:solidFill>
                      <a:latin typeface="Tahoma"/>
                      <a:ea typeface="Tahoma"/>
                    </a:rPr>
                    <a:t>adulto que fuma menos de 1 cigarrillo/día durante los últimos 6 meses</a:t>
                  </a:r>
                  <a:endParaRPr b="0" lang="en-US" sz="1600" spc="-1" strike="noStrike">
                    <a:solidFill>
                      <a:srgbClr val="000000"/>
                    </a:solidFill>
                    <a:latin typeface="Times New Roman"/>
                  </a:endParaRPr>
                </a:p>
              </p:txBody>
            </p:sp>
            <p:sp>
              <p:nvSpPr>
                <p:cNvPr id="64" name=""/>
                <p:cNvSpPr/>
                <p:nvPr/>
              </p:nvSpPr>
              <p:spPr>
                <a:xfrm>
                  <a:off x="540000" y="3159720"/>
                  <a:ext cx="4183560" cy="81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4723920" y="3159720"/>
                <a:ext cx="4183560" cy="816120"/>
                <a:chOff x="4723920" y="3159720"/>
                <a:chExt cx="4183560" cy="816120"/>
              </a:xfrm>
            </p:grpSpPr>
            <p:sp>
              <p:nvSpPr>
                <p:cNvPr id="66" name=""/>
                <p:cNvSpPr/>
                <p:nvPr/>
              </p:nvSpPr>
              <p:spPr>
                <a:xfrm>
                  <a:off x="4786920" y="3159720"/>
                  <a:ext cx="4057200" cy="816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EX FUMADOR:</a:t>
                  </a:r>
                  <a:r>
                    <a:rPr b="0" lang="en-US" sz="1600" spc="-1" strike="noStrike">
                      <a:solidFill>
                        <a:srgbClr val="ffffff"/>
                      </a:solidFill>
                      <a:latin typeface="Tahoma"/>
                      <a:ea typeface="Tahoma"/>
                    </a:rPr>
                    <a:t> Fumador que se ha mantenido en abstinencia durante 6 meses.</a:t>
                  </a:r>
                  <a:endParaRPr b="0" lang="en-US" sz="1600" spc="-1" strike="noStrike">
                    <a:solidFill>
                      <a:srgbClr val="000000"/>
                    </a:solidFill>
                    <a:latin typeface="Times New Roman"/>
                  </a:endParaRPr>
                </a:p>
              </p:txBody>
            </p:sp>
            <p:sp>
              <p:nvSpPr>
                <p:cNvPr id="67" name=""/>
                <p:cNvSpPr/>
                <p:nvPr/>
              </p:nvSpPr>
              <p:spPr>
                <a:xfrm>
                  <a:off x="4723920" y="3159720"/>
                  <a:ext cx="4183560" cy="816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540000" y="3976200"/>
                <a:ext cx="8367480" cy="542880"/>
                <a:chOff x="540000" y="3976200"/>
                <a:chExt cx="8367480" cy="542880"/>
              </a:xfrm>
            </p:grpSpPr>
            <p:sp>
              <p:nvSpPr>
                <p:cNvPr id="69" name=""/>
                <p:cNvSpPr/>
                <p:nvPr/>
              </p:nvSpPr>
              <p:spPr>
                <a:xfrm>
                  <a:off x="603000" y="3976200"/>
                  <a:ext cx="8241120" cy="54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ahoma"/>
                    </a:rPr>
                    <a:t>Jóvenes (12a. – 19a.)</a:t>
                  </a:r>
                  <a:r>
                    <a:rPr b="0" lang="en-US" sz="2000" spc="-1" strike="noStrike">
                      <a:solidFill>
                        <a:srgbClr val="ffff00"/>
                      </a:solidFill>
                      <a:latin typeface="Tahoma"/>
                      <a:ea typeface="Tahoma"/>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540000" y="3976200"/>
                  <a:ext cx="836748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40000" y="4519080"/>
                <a:ext cx="4183560" cy="530280"/>
                <a:chOff x="540000" y="4519080"/>
                <a:chExt cx="4183560" cy="530280"/>
              </a:xfrm>
            </p:grpSpPr>
            <p:sp>
              <p:nvSpPr>
                <p:cNvPr id="72" name=""/>
                <p:cNvSpPr/>
                <p:nvPr/>
              </p:nvSpPr>
              <p:spPr>
                <a:xfrm>
                  <a:off x="603000" y="4519080"/>
                  <a:ext cx="4057200" cy="53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FUMAD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a:off x="540000" y="4519080"/>
                  <a:ext cx="41835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4723920" y="4519080"/>
                <a:ext cx="4183560" cy="530280"/>
                <a:chOff x="4723920" y="4519080"/>
                <a:chExt cx="4183560" cy="530280"/>
              </a:xfrm>
            </p:grpSpPr>
            <p:sp>
              <p:nvSpPr>
                <p:cNvPr id="75" name=""/>
                <p:cNvSpPr/>
                <p:nvPr/>
              </p:nvSpPr>
              <p:spPr>
                <a:xfrm>
                  <a:off x="4786920" y="4519080"/>
                  <a:ext cx="4057200" cy="53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NUNCA FUMADO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 name=""/>
                <p:cNvSpPr/>
                <p:nvPr/>
              </p:nvSpPr>
              <p:spPr>
                <a:xfrm>
                  <a:off x="4723920" y="4519080"/>
                  <a:ext cx="4183560" cy="53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40000" y="5049720"/>
                <a:ext cx="4183560" cy="673200"/>
                <a:chOff x="540000" y="5049720"/>
                <a:chExt cx="4183560" cy="673200"/>
              </a:xfrm>
            </p:grpSpPr>
            <p:sp>
              <p:nvSpPr>
                <p:cNvPr id="78" name=""/>
                <p:cNvSpPr/>
                <p:nvPr/>
              </p:nvSpPr>
              <p:spPr>
                <a:xfrm>
                  <a:off x="603000" y="5049720"/>
                  <a:ext cx="4057200" cy="673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FUMADOR: </a:t>
                  </a:r>
                  <a:r>
                    <a:rPr b="0" lang="en-US" sz="1600" spc="-1" strike="noStrike">
                      <a:solidFill>
                        <a:srgbClr val="ffffff"/>
                      </a:solidFill>
                      <a:latin typeface="Tahoma"/>
                      <a:ea typeface="Tahoma"/>
                    </a:rPr>
                    <a:t>joven que ha fumado por lo menos 1 vez en los 30 días previos</a:t>
                  </a:r>
                  <a:r>
                    <a:rPr b="0" lang="en-US" sz="1100" spc="-1" strike="noStrike">
                      <a:solidFill>
                        <a:srgbClr val="000000"/>
                      </a:solidFill>
                      <a:latin typeface="Tahoma"/>
                      <a:ea typeface="Tahoma"/>
                    </a:rPr>
                    <a: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79" name=""/>
                <p:cNvSpPr/>
                <p:nvPr/>
              </p:nvSpPr>
              <p:spPr>
                <a:xfrm>
                  <a:off x="540000" y="5049720"/>
                  <a:ext cx="4183560" cy="67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4723920" y="5049720"/>
                <a:ext cx="4183560" cy="673200"/>
                <a:chOff x="4723920" y="5049720"/>
                <a:chExt cx="4183560" cy="673200"/>
              </a:xfrm>
            </p:grpSpPr>
            <p:sp>
              <p:nvSpPr>
                <p:cNvPr id="81" name=""/>
                <p:cNvSpPr/>
                <p:nvPr/>
              </p:nvSpPr>
              <p:spPr>
                <a:xfrm>
                  <a:off x="4786920" y="5049720"/>
                  <a:ext cx="4057200" cy="673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Joven que nunca ha probado un cigarrillo, ni siquiera una pitad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 name=""/>
                <p:cNvSpPr/>
                <p:nvPr/>
              </p:nvSpPr>
              <p:spPr>
                <a:xfrm>
                  <a:off x="4723920" y="5049720"/>
                  <a:ext cx="4183560" cy="67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40000" y="5723280"/>
                <a:ext cx="4183560" cy="673200"/>
                <a:chOff x="540000" y="5723280"/>
                <a:chExt cx="4183560" cy="673200"/>
              </a:xfrm>
            </p:grpSpPr>
            <p:sp>
              <p:nvSpPr>
                <p:cNvPr id="84" name=""/>
                <p:cNvSpPr/>
                <p:nvPr/>
              </p:nvSpPr>
              <p:spPr>
                <a:xfrm>
                  <a:off x="603000" y="5723280"/>
                  <a:ext cx="4057200" cy="673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Fumador frecuente:</a:t>
                  </a:r>
                  <a:r>
                    <a:rPr b="0" lang="en-US" sz="1600" spc="-1" strike="noStrike">
                      <a:solidFill>
                        <a:srgbClr val="ffffff"/>
                      </a:solidFill>
                      <a:latin typeface="Tahoma"/>
                      <a:ea typeface="Tahoma"/>
                    </a:rPr>
                    <a:t> joven que ha fumado 20 de los últimos 30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540000" y="5723280"/>
                  <a:ext cx="4183560" cy="67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4723920" y="5723280"/>
                <a:ext cx="4183560" cy="673200"/>
                <a:chOff x="4723920" y="5723280"/>
                <a:chExt cx="4183560" cy="673200"/>
              </a:xfrm>
            </p:grpSpPr>
            <p:sp>
              <p:nvSpPr>
                <p:cNvPr id="87" name=""/>
                <p:cNvSpPr/>
                <p:nvPr/>
              </p:nvSpPr>
              <p:spPr>
                <a:xfrm>
                  <a:off x="4786920" y="5723280"/>
                  <a:ext cx="4057200" cy="673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Joven que  experimentó una o dos pitadas</a:t>
                  </a:r>
                  <a:r>
                    <a:rPr b="0" lang="en-US" sz="1100" spc="-1" strike="noStrike">
                      <a:solidFill>
                        <a:srgbClr val="000000"/>
                      </a:solidFill>
                      <a:latin typeface="Tahoma"/>
                      <a:ea typeface="Tahoma"/>
                    </a:rPr>
                    <a:t>.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8" name=""/>
                <p:cNvSpPr/>
                <p:nvPr/>
              </p:nvSpPr>
              <p:spPr>
                <a:xfrm>
                  <a:off x="4723920" y="5723280"/>
                  <a:ext cx="4183560" cy="67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9" name=""/>
            <p:cNvSpPr/>
            <p:nvPr/>
          </p:nvSpPr>
          <p:spPr>
            <a:xfrm>
              <a:off x="533520" y="838080"/>
              <a:ext cx="8381520" cy="5562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LEVAMIENTO</a:t>
            </a:r>
            <a:endParaRPr b="0" lang="en-US" sz="2400" spc="-1" strike="noStrike">
              <a:solidFill>
                <a:srgbClr val="000000"/>
              </a:solidFill>
              <a:latin typeface="Times New Roman"/>
            </a:endParaRPr>
          </a:p>
        </p:txBody>
      </p:sp>
      <p:grpSp>
        <p:nvGrpSpPr>
          <p:cNvPr id="91" name=""/>
          <p:cNvGrpSpPr/>
          <p:nvPr/>
        </p:nvGrpSpPr>
        <p:grpSpPr>
          <a:xfrm>
            <a:off x="380880" y="1066680"/>
            <a:ext cx="8153280" cy="5013360"/>
            <a:chOff x="380880" y="1066680"/>
            <a:chExt cx="8153280" cy="5013360"/>
          </a:xfrm>
        </p:grpSpPr>
        <p:grpSp>
          <p:nvGrpSpPr>
            <p:cNvPr id="92" name=""/>
            <p:cNvGrpSpPr/>
            <p:nvPr/>
          </p:nvGrpSpPr>
          <p:grpSpPr>
            <a:xfrm>
              <a:off x="387000" y="1071360"/>
              <a:ext cx="8139960" cy="5003640"/>
              <a:chOff x="387000" y="1071360"/>
              <a:chExt cx="8139960" cy="5003640"/>
            </a:xfrm>
          </p:grpSpPr>
          <p:grpSp>
            <p:nvGrpSpPr>
              <p:cNvPr id="93" name=""/>
              <p:cNvGrpSpPr/>
              <p:nvPr/>
            </p:nvGrpSpPr>
            <p:grpSpPr>
              <a:xfrm>
                <a:off x="387000" y="1071360"/>
                <a:ext cx="2034720" cy="1251000"/>
                <a:chOff x="387000" y="1071360"/>
                <a:chExt cx="2034720" cy="1251000"/>
              </a:xfrm>
            </p:grpSpPr>
            <p:sp>
              <p:nvSpPr>
                <p:cNvPr id="94" name=""/>
                <p:cNvSpPr/>
                <p:nvPr/>
              </p:nvSpPr>
              <p:spPr>
                <a:xfrm>
                  <a:off x="446400" y="1071360"/>
                  <a:ext cx="1915200" cy="125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ea typeface="Tahoma"/>
                    </a:rPr>
                    <a:t>GRUPOS SEGÚN EDA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87000" y="1071360"/>
                  <a:ext cx="2034720" cy="125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422080" y="1071360"/>
                <a:ext cx="6104880" cy="625320"/>
                <a:chOff x="2422080" y="1071360"/>
                <a:chExt cx="6104880" cy="625320"/>
              </a:xfrm>
            </p:grpSpPr>
            <p:sp>
              <p:nvSpPr>
                <p:cNvPr id="97" name=""/>
                <p:cNvSpPr/>
                <p:nvPr/>
              </p:nvSpPr>
              <p:spPr>
                <a:xfrm>
                  <a:off x="2481480" y="1071360"/>
                  <a:ext cx="598536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ahoma"/>
                    </a:rPr>
                    <a:t>LUGAR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2422080" y="1071360"/>
                  <a:ext cx="610488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2422080" y="1696680"/>
                <a:ext cx="2034720" cy="625680"/>
                <a:chOff x="2422080" y="1696680"/>
                <a:chExt cx="2034720" cy="625680"/>
              </a:xfrm>
            </p:grpSpPr>
            <p:sp>
              <p:nvSpPr>
                <p:cNvPr id="100" name=""/>
                <p:cNvSpPr/>
                <p:nvPr/>
              </p:nvSpPr>
              <p:spPr>
                <a:xfrm>
                  <a:off x="2481480" y="1696680"/>
                  <a:ext cx="1915200" cy="62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MONTEVIDE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2422080" y="1696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457160" y="1696680"/>
                <a:ext cx="2034720" cy="625680"/>
                <a:chOff x="4457160" y="1696680"/>
                <a:chExt cx="2034720" cy="625680"/>
              </a:xfrm>
            </p:grpSpPr>
            <p:sp>
              <p:nvSpPr>
                <p:cNvPr id="103" name=""/>
                <p:cNvSpPr/>
                <p:nvPr/>
              </p:nvSpPr>
              <p:spPr>
                <a:xfrm>
                  <a:off x="4516560" y="1696680"/>
                  <a:ext cx="1915200" cy="62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SAL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
                <p:cNvSpPr/>
                <p:nvPr/>
              </p:nvSpPr>
              <p:spPr>
                <a:xfrm>
                  <a:off x="4457160" y="1696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6492240" y="1696680"/>
                <a:ext cx="2034720" cy="625680"/>
                <a:chOff x="6492240" y="1696680"/>
                <a:chExt cx="2034720" cy="625680"/>
              </a:xfrm>
            </p:grpSpPr>
            <p:sp>
              <p:nvSpPr>
                <p:cNvPr id="106" name=""/>
                <p:cNvSpPr/>
                <p:nvPr/>
              </p:nvSpPr>
              <p:spPr>
                <a:xfrm>
                  <a:off x="6551640" y="1696680"/>
                  <a:ext cx="1915200" cy="62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MALDON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6492240" y="1696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387000" y="2322360"/>
                <a:ext cx="2034720" cy="625320"/>
                <a:chOff x="387000" y="2322360"/>
                <a:chExt cx="2034720" cy="625320"/>
              </a:xfrm>
            </p:grpSpPr>
            <p:sp>
              <p:nvSpPr>
                <p:cNvPr id="109" name=""/>
                <p:cNvSpPr/>
                <p:nvPr/>
              </p:nvSpPr>
              <p:spPr>
                <a:xfrm>
                  <a:off x="446400" y="2322360"/>
                  <a:ext cx="191520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12-1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
                <p:cNvSpPr/>
                <p:nvPr/>
              </p:nvSpPr>
              <p:spPr>
                <a:xfrm>
                  <a:off x="387000" y="2322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2422080" y="2322360"/>
                <a:ext cx="2034720" cy="625320"/>
                <a:chOff x="2422080" y="2322360"/>
                <a:chExt cx="2034720" cy="625320"/>
              </a:xfrm>
            </p:grpSpPr>
            <p:sp>
              <p:nvSpPr>
                <p:cNvPr id="112" name=""/>
                <p:cNvSpPr/>
                <p:nvPr/>
              </p:nvSpPr>
              <p:spPr>
                <a:xfrm>
                  <a:off x="2481480" y="2322360"/>
                  <a:ext cx="191520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422080" y="2322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4457160" y="2322360"/>
                <a:ext cx="2034720" cy="625320"/>
                <a:chOff x="4457160" y="2322360"/>
                <a:chExt cx="2034720" cy="625320"/>
              </a:xfrm>
            </p:grpSpPr>
            <p:sp>
              <p:nvSpPr>
                <p:cNvPr id="115" name=""/>
                <p:cNvSpPr/>
                <p:nvPr/>
              </p:nvSpPr>
              <p:spPr>
                <a:xfrm>
                  <a:off x="4516560" y="2322360"/>
                  <a:ext cx="191520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 name=""/>
                <p:cNvSpPr/>
                <p:nvPr/>
              </p:nvSpPr>
              <p:spPr>
                <a:xfrm>
                  <a:off x="4457160" y="2322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6492240" y="2322360"/>
                <a:ext cx="2034720" cy="625320"/>
                <a:chOff x="6492240" y="2322360"/>
                <a:chExt cx="2034720" cy="625320"/>
              </a:xfrm>
            </p:grpSpPr>
            <p:sp>
              <p:nvSpPr>
                <p:cNvPr id="118" name=""/>
                <p:cNvSpPr/>
                <p:nvPr/>
              </p:nvSpPr>
              <p:spPr>
                <a:xfrm>
                  <a:off x="6551640" y="2322360"/>
                  <a:ext cx="191520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 name=""/>
                <p:cNvSpPr/>
                <p:nvPr/>
              </p:nvSpPr>
              <p:spPr>
                <a:xfrm>
                  <a:off x="6492240" y="2322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87000" y="2947680"/>
                <a:ext cx="2034720" cy="625680"/>
                <a:chOff x="387000" y="2947680"/>
                <a:chExt cx="2034720" cy="625680"/>
              </a:xfrm>
            </p:grpSpPr>
            <p:sp>
              <p:nvSpPr>
                <p:cNvPr id="121" name=""/>
                <p:cNvSpPr/>
                <p:nvPr/>
              </p:nvSpPr>
              <p:spPr>
                <a:xfrm>
                  <a:off x="446400" y="2947680"/>
                  <a:ext cx="1915200" cy="62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16-19</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387000" y="2947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422080" y="2947680"/>
                <a:ext cx="2034720" cy="625680"/>
                <a:chOff x="2422080" y="2947680"/>
                <a:chExt cx="2034720" cy="625680"/>
              </a:xfrm>
            </p:grpSpPr>
            <p:sp>
              <p:nvSpPr>
                <p:cNvPr id="124" name=""/>
                <p:cNvSpPr/>
                <p:nvPr/>
              </p:nvSpPr>
              <p:spPr>
                <a:xfrm>
                  <a:off x="2481480" y="2947680"/>
                  <a:ext cx="1915200" cy="62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
                <p:cNvSpPr/>
                <p:nvPr/>
              </p:nvSpPr>
              <p:spPr>
                <a:xfrm>
                  <a:off x="2422080" y="2947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457160" y="2947680"/>
                <a:ext cx="2034720" cy="625680"/>
                <a:chOff x="4457160" y="2947680"/>
                <a:chExt cx="2034720" cy="625680"/>
              </a:xfrm>
            </p:grpSpPr>
            <p:sp>
              <p:nvSpPr>
                <p:cNvPr id="127" name=""/>
                <p:cNvSpPr/>
                <p:nvPr/>
              </p:nvSpPr>
              <p:spPr>
                <a:xfrm>
                  <a:off x="4516560" y="2947680"/>
                  <a:ext cx="1915200" cy="625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
                <p:cNvSpPr/>
                <p:nvPr/>
              </p:nvSpPr>
              <p:spPr>
                <a:xfrm>
                  <a:off x="4457160" y="2947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6492240" y="2947680"/>
                <a:ext cx="2034720" cy="625680"/>
                <a:chOff x="6492240" y="2947680"/>
                <a:chExt cx="2034720" cy="625680"/>
              </a:xfrm>
            </p:grpSpPr>
            <p:sp>
              <p:nvSpPr>
                <p:cNvPr id="130" name=""/>
                <p:cNvSpPr/>
                <p:nvPr/>
              </p:nvSpPr>
              <p:spPr>
                <a:xfrm>
                  <a:off x="6551640" y="2947680"/>
                  <a:ext cx="1915200" cy="625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492240" y="2947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87000" y="3573360"/>
                <a:ext cx="2034720" cy="625320"/>
                <a:chOff x="387000" y="3573360"/>
                <a:chExt cx="2034720" cy="625320"/>
              </a:xfrm>
            </p:grpSpPr>
            <p:sp>
              <p:nvSpPr>
                <p:cNvPr id="133" name=""/>
                <p:cNvSpPr/>
                <p:nvPr/>
              </p:nvSpPr>
              <p:spPr>
                <a:xfrm>
                  <a:off x="446400" y="3573360"/>
                  <a:ext cx="191520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20-2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
                <p:cNvSpPr/>
                <p:nvPr/>
              </p:nvSpPr>
              <p:spPr>
                <a:xfrm>
                  <a:off x="387000" y="3573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2422080" y="3573360"/>
                <a:ext cx="2034720" cy="625320"/>
                <a:chOff x="2422080" y="3573360"/>
                <a:chExt cx="2034720" cy="625320"/>
              </a:xfrm>
            </p:grpSpPr>
            <p:sp>
              <p:nvSpPr>
                <p:cNvPr id="136" name=""/>
                <p:cNvSpPr/>
                <p:nvPr/>
              </p:nvSpPr>
              <p:spPr>
                <a:xfrm>
                  <a:off x="2481480" y="3573360"/>
                  <a:ext cx="191520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422080" y="3573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457160" y="3573360"/>
                <a:ext cx="2034720" cy="625320"/>
                <a:chOff x="4457160" y="3573360"/>
                <a:chExt cx="2034720" cy="625320"/>
              </a:xfrm>
            </p:grpSpPr>
            <p:sp>
              <p:nvSpPr>
                <p:cNvPr id="139" name=""/>
                <p:cNvSpPr/>
                <p:nvPr/>
              </p:nvSpPr>
              <p:spPr>
                <a:xfrm>
                  <a:off x="4516560" y="3573360"/>
                  <a:ext cx="191520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
                <p:cNvSpPr/>
                <p:nvPr/>
              </p:nvSpPr>
              <p:spPr>
                <a:xfrm>
                  <a:off x="4457160" y="3573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6492240" y="3573360"/>
                <a:ext cx="2034720" cy="625320"/>
                <a:chOff x="6492240" y="3573360"/>
                <a:chExt cx="2034720" cy="625320"/>
              </a:xfrm>
            </p:grpSpPr>
            <p:sp>
              <p:nvSpPr>
                <p:cNvPr id="142" name=""/>
                <p:cNvSpPr/>
                <p:nvPr/>
              </p:nvSpPr>
              <p:spPr>
                <a:xfrm>
                  <a:off x="6551640" y="3573360"/>
                  <a:ext cx="191520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 name=""/>
                <p:cNvSpPr/>
                <p:nvPr/>
              </p:nvSpPr>
              <p:spPr>
                <a:xfrm>
                  <a:off x="6492240" y="3573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87000" y="4198680"/>
                <a:ext cx="2034720" cy="625680"/>
                <a:chOff x="387000" y="4198680"/>
                <a:chExt cx="2034720" cy="625680"/>
              </a:xfrm>
            </p:grpSpPr>
            <p:sp>
              <p:nvSpPr>
                <p:cNvPr id="145" name=""/>
                <p:cNvSpPr/>
                <p:nvPr/>
              </p:nvSpPr>
              <p:spPr>
                <a:xfrm>
                  <a:off x="446400" y="4198680"/>
                  <a:ext cx="1915200" cy="62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25-3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
                <p:cNvSpPr/>
                <p:nvPr/>
              </p:nvSpPr>
              <p:spPr>
                <a:xfrm>
                  <a:off x="387000" y="4198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422080" y="4198680"/>
                <a:ext cx="2034720" cy="625680"/>
                <a:chOff x="2422080" y="4198680"/>
                <a:chExt cx="2034720" cy="625680"/>
              </a:xfrm>
            </p:grpSpPr>
            <p:sp>
              <p:nvSpPr>
                <p:cNvPr id="148" name=""/>
                <p:cNvSpPr/>
                <p:nvPr/>
              </p:nvSpPr>
              <p:spPr>
                <a:xfrm>
                  <a:off x="2481480" y="4198680"/>
                  <a:ext cx="1915200" cy="62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2422080" y="4198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457160" y="4198680"/>
                <a:ext cx="2034720" cy="625680"/>
                <a:chOff x="4457160" y="4198680"/>
                <a:chExt cx="2034720" cy="625680"/>
              </a:xfrm>
            </p:grpSpPr>
            <p:sp>
              <p:nvSpPr>
                <p:cNvPr id="151" name=""/>
                <p:cNvSpPr/>
                <p:nvPr/>
              </p:nvSpPr>
              <p:spPr>
                <a:xfrm>
                  <a:off x="4516560" y="4198680"/>
                  <a:ext cx="1915200" cy="62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4457160" y="4198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492240" y="4198680"/>
                <a:ext cx="2034720" cy="625680"/>
                <a:chOff x="6492240" y="4198680"/>
                <a:chExt cx="2034720" cy="625680"/>
              </a:xfrm>
            </p:grpSpPr>
            <p:sp>
              <p:nvSpPr>
                <p:cNvPr id="154" name=""/>
                <p:cNvSpPr/>
                <p:nvPr/>
              </p:nvSpPr>
              <p:spPr>
                <a:xfrm>
                  <a:off x="6551640" y="4198680"/>
                  <a:ext cx="1915200" cy="62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492240" y="4198680"/>
                  <a:ext cx="20347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387000" y="4824360"/>
                <a:ext cx="2034720" cy="625320"/>
                <a:chOff x="387000" y="4824360"/>
                <a:chExt cx="2034720" cy="625320"/>
              </a:xfrm>
            </p:grpSpPr>
            <p:sp>
              <p:nvSpPr>
                <p:cNvPr id="157" name=""/>
                <p:cNvSpPr/>
                <p:nvPr/>
              </p:nvSpPr>
              <p:spPr>
                <a:xfrm>
                  <a:off x="446400" y="4824360"/>
                  <a:ext cx="191520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35-4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387000" y="4824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2422080" y="4824360"/>
                <a:ext cx="2034720" cy="625320"/>
                <a:chOff x="2422080" y="4824360"/>
                <a:chExt cx="2034720" cy="625320"/>
              </a:xfrm>
            </p:grpSpPr>
            <p:sp>
              <p:nvSpPr>
                <p:cNvPr id="160" name=""/>
                <p:cNvSpPr/>
                <p:nvPr/>
              </p:nvSpPr>
              <p:spPr>
                <a:xfrm>
                  <a:off x="2481480" y="4824360"/>
                  <a:ext cx="191520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
                <p:cNvSpPr/>
                <p:nvPr/>
              </p:nvSpPr>
              <p:spPr>
                <a:xfrm>
                  <a:off x="2422080" y="4824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457160" y="4824360"/>
                <a:ext cx="2034720" cy="625320"/>
                <a:chOff x="4457160" y="4824360"/>
                <a:chExt cx="2034720" cy="625320"/>
              </a:xfrm>
            </p:grpSpPr>
            <p:sp>
              <p:nvSpPr>
                <p:cNvPr id="163" name=""/>
                <p:cNvSpPr/>
                <p:nvPr/>
              </p:nvSpPr>
              <p:spPr>
                <a:xfrm>
                  <a:off x="4516560" y="4824360"/>
                  <a:ext cx="191520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4" name=""/>
                <p:cNvSpPr/>
                <p:nvPr/>
              </p:nvSpPr>
              <p:spPr>
                <a:xfrm>
                  <a:off x="4457160" y="4824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492240" y="4824360"/>
                <a:ext cx="2034720" cy="625320"/>
                <a:chOff x="6492240" y="4824360"/>
                <a:chExt cx="2034720" cy="625320"/>
              </a:xfrm>
            </p:grpSpPr>
            <p:sp>
              <p:nvSpPr>
                <p:cNvPr id="166" name=""/>
                <p:cNvSpPr/>
                <p:nvPr/>
              </p:nvSpPr>
              <p:spPr>
                <a:xfrm>
                  <a:off x="6551640" y="4824360"/>
                  <a:ext cx="191520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
                <p:cNvSpPr/>
                <p:nvPr/>
              </p:nvSpPr>
              <p:spPr>
                <a:xfrm>
                  <a:off x="6492240" y="482436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87000" y="5449680"/>
                <a:ext cx="2034720" cy="625320"/>
                <a:chOff x="387000" y="5449680"/>
                <a:chExt cx="2034720" cy="625320"/>
              </a:xfrm>
            </p:grpSpPr>
            <p:sp>
              <p:nvSpPr>
                <p:cNvPr id="169" name=""/>
                <p:cNvSpPr/>
                <p:nvPr/>
              </p:nvSpPr>
              <p:spPr>
                <a:xfrm>
                  <a:off x="446400" y="5449680"/>
                  <a:ext cx="191520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45 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387000" y="544968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422080" y="5449680"/>
                <a:ext cx="2034720" cy="625320"/>
                <a:chOff x="2422080" y="5449680"/>
                <a:chExt cx="2034720" cy="625320"/>
              </a:xfrm>
            </p:grpSpPr>
            <p:sp>
              <p:nvSpPr>
                <p:cNvPr id="172" name=""/>
                <p:cNvSpPr/>
                <p:nvPr/>
              </p:nvSpPr>
              <p:spPr>
                <a:xfrm>
                  <a:off x="2481480" y="5449680"/>
                  <a:ext cx="1915200" cy="62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ahoma"/>
                    </a:rPr>
                    <a:t>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
                <p:cNvSpPr/>
                <p:nvPr/>
              </p:nvSpPr>
              <p:spPr>
                <a:xfrm>
                  <a:off x="2422080" y="544968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4457160" y="5449680"/>
                <a:ext cx="2034720" cy="625320"/>
                <a:chOff x="4457160" y="5449680"/>
                <a:chExt cx="2034720" cy="625320"/>
              </a:xfrm>
            </p:grpSpPr>
            <p:sp>
              <p:nvSpPr>
                <p:cNvPr id="175" name=""/>
                <p:cNvSpPr/>
                <p:nvPr/>
              </p:nvSpPr>
              <p:spPr>
                <a:xfrm>
                  <a:off x="4516560" y="5449680"/>
                  <a:ext cx="191520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4457160" y="544968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492240" y="5449680"/>
                <a:ext cx="2034720" cy="625320"/>
                <a:chOff x="6492240" y="5449680"/>
                <a:chExt cx="2034720" cy="625320"/>
              </a:xfrm>
            </p:grpSpPr>
            <p:sp>
              <p:nvSpPr>
                <p:cNvPr id="178" name=""/>
                <p:cNvSpPr/>
                <p:nvPr/>
              </p:nvSpPr>
              <p:spPr>
                <a:xfrm>
                  <a:off x="6551640" y="5449680"/>
                  <a:ext cx="1915200" cy="625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6492240" y="5449680"/>
                  <a:ext cx="2034720" cy="62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 name=""/>
            <p:cNvSpPr/>
            <p:nvPr/>
          </p:nvSpPr>
          <p:spPr>
            <a:xfrm>
              <a:off x="380880" y="1066680"/>
              <a:ext cx="8153280" cy="5013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456840"/>
            <a:ext cx="876312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00"/>
                </a:solidFill>
                <a:uFillTx/>
                <a:latin typeface="Tahoma"/>
                <a:ea typeface="Tahoma"/>
              </a:rPr>
              <a:t>Conclusiones Preliminares sobre los jóvenes de 12 a 15 años.</a:t>
            </a:r>
            <a:br>
              <a:rPr sz="2200"/>
            </a:br>
            <a:endParaRPr b="0" lang="en-US" sz="2200" spc="-1" strike="noStrike">
              <a:solidFill>
                <a:srgbClr val="000000"/>
              </a:solidFill>
              <a:latin typeface="Times New Roman"/>
            </a:endParaRPr>
          </a:p>
        </p:txBody>
      </p:sp>
      <p:sp>
        <p:nvSpPr>
          <p:cNvPr id="182" name=""/>
          <p:cNvSpPr/>
          <p:nvPr/>
        </p:nvSpPr>
        <p:spPr>
          <a:xfrm>
            <a:off x="228600" y="925560"/>
            <a:ext cx="8534520" cy="591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No se encuentran diferencias significativas en los discursos de los adolescentes fumadores y no fumadores sobre porqué se fuma, en función de los contextos sociales y económicos.</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Tampoco se encuentran marcadas diferencias de género en los discurso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El consumo de cigarrillos tiene un perfil grupal, donde las relaciones entre ‘pares’ y la asimilación de ‘modelos’ son fundamentales en la percepción del proceso de devenir fumado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En la percepción de los adolescentes sobre el consumo de tabaco se acorta la distancia entre inicio/vici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Uno de los aspectos más notorios es la indiferencia frente a la información sobre las consecuencias del consumo de tabac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ahoma"/>
                <a:ea typeface="Times New Roman"/>
              </a:rPr>
              <a:t>  </a:t>
            </a:r>
            <a:r>
              <a:rPr b="1" lang="es-ES" sz="1800" spc="-1" strike="noStrike">
                <a:solidFill>
                  <a:srgbClr val="ffffff"/>
                </a:solidFill>
                <a:latin typeface="Tahoma"/>
                <a:ea typeface="Times New Roman"/>
              </a:rPr>
              <a:t>S</a:t>
            </a:r>
            <a:r>
              <a:rPr b="1" lang="es-ES" sz="1800" spc="-1" strike="noStrike">
                <a:solidFill>
                  <a:srgbClr val="ffffff"/>
                </a:solidFill>
                <a:latin typeface="Tahoma"/>
                <a:ea typeface="Tahoma"/>
              </a:rPr>
              <a:t>ería conveniente diseñar estrategias de información/formación que incorporen dinámicas cara a cara habilitantes para la generación de compromisos interpa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200" spc="-1" strike="noStrike" u="sng">
                <a:solidFill>
                  <a:srgbClr val="ffff00"/>
                </a:solidFill>
                <a:uFillTx/>
                <a:latin typeface="Tahoma"/>
                <a:ea typeface="Tahoma"/>
              </a:rPr>
              <a:t>Conclusiones Preliminares en Población de 16 a 65 años en Montevideo.</a:t>
            </a:r>
            <a:br>
              <a:rPr sz="2200"/>
            </a:br>
            <a:endParaRPr b="0" lang="en-US" sz="2200" spc="-1" strike="noStrike">
              <a:solidFill>
                <a:srgbClr val="000000"/>
              </a:solidFill>
              <a:latin typeface="Times New Roman"/>
            </a:endParaRPr>
          </a:p>
        </p:txBody>
      </p:sp>
      <p:sp>
        <p:nvSpPr>
          <p:cNvPr id="184" name=""/>
          <p:cNvSpPr/>
          <p:nvPr/>
        </p:nvSpPr>
        <p:spPr>
          <a:xfrm>
            <a:off x="304920" y="685800"/>
            <a:ext cx="838188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imes New Roman"/>
              </a:rPr>
              <a:t>T</a:t>
            </a:r>
            <a:r>
              <a:rPr b="1" lang="es-ES" sz="1800" spc="-1" strike="noStrike">
                <a:solidFill>
                  <a:srgbClr val="ffffff"/>
                </a:solidFill>
                <a:latin typeface="Tahoma"/>
                <a:ea typeface="Tahoma"/>
              </a:rPr>
              <a:t>odos los grupos de edades perciben y explican la práctica de fumar como un fenómeno multicausal: social, psicológico, biológico y químic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Existe una representación social procesal sobre el devenir fumador: inicio /hábito/vicio-adicc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La construcción discursiva del porqué se fuma requiere ser abordada desde una perspectiva de cortes generacional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No se observaron discursos diferentes en función del géner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Las representaciones sociales, que modelan las percepciones sobre el consumo de tabaco, permiten comprender cómo los mensajes de estímulo del consumo convocan a una  satisfacción sustitutiva o complementaria de la integración social.</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ymbol"/>
                <a:ea typeface="Symbol"/>
              </a:rPr>
              <a:t></a:t>
            </a:r>
            <a:r>
              <a:rPr b="1" lang="es-ES" sz="1800" spc="-1" strike="noStrike">
                <a:solidFill>
                  <a:srgbClr val="ffffff"/>
                </a:solidFill>
                <a:latin typeface="Times New Roman"/>
                <a:ea typeface="Times New Roman"/>
              </a:rPr>
              <a:t> </a:t>
            </a:r>
            <a:r>
              <a:rPr b="1" lang="es-ES" sz="1800" spc="-1" strike="noStrike">
                <a:solidFill>
                  <a:srgbClr val="ffffff"/>
                </a:solidFill>
                <a:latin typeface="Tahoma"/>
                <a:ea typeface="Tahoma"/>
              </a:rPr>
              <a:t>Diseñar estrategias diferenciales para el desestímulo de fumar en función de los cortes generacionales. Para los mas jóvenes sería necesario una estrategia basada las lógicas de integración de pares,  que genere instancias de compromisos  tanto con la información y con la forma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Tahoma"/>
                <a:ea typeface="Tahoma"/>
              </a:rPr>
              <a:t>Conclusiones Preliminares para la población en Ciudades de Maldonado y Salto.</a:t>
            </a:r>
            <a:br>
              <a:rPr sz="2200"/>
            </a:br>
            <a:endParaRPr b="0" lang="en-US" sz="2200" spc="-1" strike="noStrike">
              <a:solidFill>
                <a:srgbClr val="000000"/>
              </a:solidFill>
              <a:latin typeface="Times New Roman"/>
            </a:endParaRPr>
          </a:p>
        </p:txBody>
      </p:sp>
      <p:sp>
        <p:nvSpPr>
          <p:cNvPr id="186" name=""/>
          <p:cNvSpPr/>
          <p:nvPr/>
        </p:nvSpPr>
        <p:spPr>
          <a:xfrm>
            <a:off x="228600" y="903240"/>
            <a:ext cx="8763120" cy="59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Symbol"/>
                <a:ea typeface="Symbol"/>
              </a:rPr>
              <a:t></a:t>
            </a:r>
            <a:r>
              <a:rPr b="1" lang="es-ES" sz="1700" spc="-1" strike="noStrike">
                <a:solidFill>
                  <a:srgbClr val="ffffff"/>
                </a:solidFill>
                <a:latin typeface="Times New Roman"/>
                <a:ea typeface="Times New Roman"/>
              </a:rPr>
              <a:t> </a:t>
            </a:r>
            <a:r>
              <a:rPr b="1" lang="es-ES" sz="1700" spc="-1" strike="noStrike">
                <a:solidFill>
                  <a:srgbClr val="ffffff"/>
                </a:solidFill>
                <a:latin typeface="Tahoma"/>
                <a:ea typeface="Tahoma"/>
              </a:rPr>
              <a:t> </a:t>
            </a:r>
            <a:r>
              <a:rPr b="1" lang="es-ES" sz="1700" spc="-1" strike="noStrike">
                <a:solidFill>
                  <a:srgbClr val="ffffff"/>
                </a:solidFill>
                <a:latin typeface="Tahoma"/>
                <a:ea typeface="Tahoma"/>
              </a:rPr>
              <a:t>Se advierte también el carácter procesal del devenir fumador, inicio /hábito/vicio-adicción.</a:t>
            </a:r>
            <a:endParaRPr b="0" lang="en-US" sz="1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Symbol"/>
                <a:ea typeface="Symbol"/>
              </a:rPr>
              <a:t></a:t>
            </a:r>
            <a:r>
              <a:rPr b="1" lang="es-ES" sz="1700" spc="-1" strike="noStrike">
                <a:solidFill>
                  <a:srgbClr val="ffffff"/>
                </a:solidFill>
                <a:latin typeface="Times New Roman"/>
                <a:ea typeface="Times New Roman"/>
              </a:rPr>
              <a:t>  </a:t>
            </a:r>
            <a:r>
              <a:rPr b="1" lang="es-ES" sz="1700" spc="-1" strike="noStrike">
                <a:solidFill>
                  <a:srgbClr val="ffffff"/>
                </a:solidFill>
                <a:latin typeface="Tahoma"/>
                <a:ea typeface="Tahoma"/>
              </a:rPr>
              <a:t>Todos los grupos etarios reconocen la multicausalidad de la práctica de fumar en sus palabras: lo grupal, la cortesía, lo imitativo y lo que se comparte dan cuerpo a ‘lo social’; la ansiedad, el nerviosismo, la timidez y la transgresión dan cuerpo a ‘lo sicológico’; también  proponen una predisposición biológica o física algo difusa.</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Symbol"/>
                <a:ea typeface="Symbol"/>
              </a:rPr>
              <a:t></a:t>
            </a:r>
            <a:r>
              <a:rPr b="1" lang="es-ES" sz="1700" spc="-1" strike="noStrike">
                <a:solidFill>
                  <a:srgbClr val="ffffff"/>
                </a:solidFill>
                <a:latin typeface="Times New Roman"/>
                <a:ea typeface="Times New Roman"/>
              </a:rPr>
              <a:t>  </a:t>
            </a:r>
            <a:r>
              <a:rPr b="1" lang="es-ES" sz="1700" spc="-1" strike="noStrike">
                <a:solidFill>
                  <a:srgbClr val="ffffff"/>
                </a:solidFill>
                <a:latin typeface="Tahoma"/>
                <a:ea typeface="Tahoma"/>
              </a:rPr>
              <a:t>Los grupos de 25 y mas años encaran el problema del consumo en variadas perspectivas, pero se destaca la preocupación por el control familiar y por el diálogo con los hijos.</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Symbol"/>
                <a:ea typeface="Symbol"/>
              </a:rPr>
              <a:t></a:t>
            </a:r>
            <a:r>
              <a:rPr b="1" lang="es-ES" sz="1700" spc="-1" strike="noStrike">
                <a:solidFill>
                  <a:srgbClr val="ffffff"/>
                </a:solidFill>
                <a:latin typeface="Times New Roman"/>
                <a:ea typeface="Times New Roman"/>
              </a:rPr>
              <a:t>  </a:t>
            </a:r>
            <a:r>
              <a:rPr b="1" lang="es-ES" sz="1700" spc="-1" strike="noStrike">
                <a:solidFill>
                  <a:srgbClr val="ffffff"/>
                </a:solidFill>
                <a:latin typeface="Tahoma"/>
                <a:ea typeface="Tahoma"/>
              </a:rPr>
              <a:t>La construcción discursiva reconoce la perspectiva generacional, y ello se expresa en los límites y en el uso de información.</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Symbol"/>
                <a:ea typeface="Symbol"/>
              </a:rPr>
              <a:t></a:t>
            </a:r>
            <a:r>
              <a:rPr b="1" lang="es-ES" sz="1700" spc="-1" strike="noStrike">
                <a:solidFill>
                  <a:srgbClr val="ffffff"/>
                </a:solidFill>
                <a:latin typeface="Times New Roman"/>
                <a:ea typeface="Times New Roman"/>
              </a:rPr>
              <a:t>  </a:t>
            </a:r>
            <a:r>
              <a:rPr b="1" lang="es-ES" sz="1700" spc="-1" strike="noStrike">
                <a:solidFill>
                  <a:srgbClr val="ffffff"/>
                </a:solidFill>
                <a:latin typeface="Tahoma"/>
                <a:ea typeface="Tahoma"/>
              </a:rPr>
              <a:t>No se observaron discursos diferentes en función del género respecto de las causas del devenir fumador. Pero sí se destacaron modalidades femeninas flexibles en referencia al embarazo y la lactancia.</a:t>
            </a:r>
            <a:endParaRPr b="0" lang="en-US" sz="17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Tahoma"/>
                <a:ea typeface="Tahoma"/>
              </a:rPr>
              <a:t>Þ</a:t>
            </a:r>
            <a:r>
              <a:rPr b="1" lang="es-ES" sz="1700" spc="-1" strike="noStrike">
                <a:solidFill>
                  <a:srgbClr val="ffffff"/>
                </a:solidFill>
                <a:latin typeface="Tahoma"/>
                <a:ea typeface="Times New Roman"/>
              </a:rPr>
              <a:t>   Los entrevistados observaron </a:t>
            </a:r>
            <a:r>
              <a:rPr b="1" lang="es-ES" sz="1700" spc="-1" strike="noStrike">
                <a:solidFill>
                  <a:srgbClr val="ffffff"/>
                </a:solidFill>
                <a:latin typeface="Tahoma"/>
                <a:ea typeface="Tahoma"/>
              </a:rPr>
              <a:t>que no siempre hay un discurso ‘claro’ en los medios de comunicación con información sobre el tabaquismo como sobre otros cuidados de la salud.</a:t>
            </a:r>
            <a:r>
              <a:rPr b="1" lang="es-ES" sz="1700" spc="-1" strike="noStrike">
                <a:solidFill>
                  <a:srgbClr val="ffffff"/>
                </a:solidFill>
                <a:latin typeface="Times New Roman"/>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295280"/>
            <a:ext cx="7924680" cy="373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homa"/>
              </a:rPr>
              <a:t>Muchas Gracias por su Atención!</a:t>
            </a:r>
            <a:br>
              <a:rPr sz="3200"/>
            </a:br>
            <a:br>
              <a:rPr sz="2800"/>
            </a:br>
            <a:br>
              <a:rPr sz="2800"/>
            </a:br>
            <a:br>
              <a:rPr sz="2800"/>
            </a:br>
            <a:br>
              <a:rPr sz="2800"/>
            </a:br>
            <a:r>
              <a:rPr b="0" lang="es-ES" sz="2800" spc="-1" strike="noStrike" u="sng">
                <a:solidFill>
                  <a:srgbClr val="ccccff"/>
                </a:solidFill>
                <a:uFillTx/>
                <a:latin typeface="Tahoma"/>
                <a:hlinkClick r:id="rId1"/>
              </a:rPr>
              <a:t>marcelo</a:t>
            </a:r>
            <a:r>
              <a:rPr b="0" lang="es-ES" sz="2800" spc="-1" strike="noStrike" u="sng">
                <a:solidFill>
                  <a:srgbClr val="ccccff"/>
                </a:solidFill>
                <a:uFillTx/>
                <a:latin typeface="Tahoma"/>
                <a:hlinkClick r:id="rId2"/>
              </a:rPr>
              <a:t>@fcs.edu.</a:t>
            </a:r>
            <a:r>
              <a:rPr b="0" lang="es-ES" sz="2800" spc="-1" strike="noStrike" u="sng">
                <a:solidFill>
                  <a:srgbClr val="ccccff"/>
                </a:solidFill>
                <a:uFillTx/>
                <a:latin typeface="Tahoma"/>
                <a:hlinkClick r:id="rId3"/>
              </a:rPr>
              <a:t>uy</a:t>
            </a:r>
            <a:r>
              <a:rPr b="1" lang="es-ES" sz="2800" spc="-1" strike="noStrike">
                <a:solidFill>
                  <a:srgbClr val="ffff00"/>
                </a:solidFill>
                <a:latin typeface="Tahoma"/>
              </a:rPr>
              <a:t>   </a:t>
            </a:r>
            <a:br>
              <a:rPr sz="2800"/>
            </a:br>
            <a:br>
              <a:rPr sz="2800"/>
            </a:br>
            <a:r>
              <a:rPr b="1" lang="es-ES" sz="2800" spc="-1" strike="noStrike">
                <a:solidFill>
                  <a:srgbClr val="ffff00"/>
                </a:solidFill>
                <a:latin typeface="Tahoma"/>
              </a:rPr>
              <a:t>(5982) 4103855, int 514</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16:42:24Z</dcterms:created>
  <dc:creator>oem</dc:creator>
  <dc:description/>
  <dc:language>en-US</dc:language>
  <cp:lastModifiedBy>Programa Sida</cp:lastModifiedBy>
  <dcterms:modified xsi:type="dcterms:W3CDTF">2006-05-31T18:56:57Z</dcterms:modified>
  <cp:revision>25</cp:revision>
  <dc:subject/>
  <dc:title>“Determinantes Sociales del consumo de  tabaco.”   Dr. Marcelo Boado - Dra. Geyser Margel </dc:title>
</cp:coreProperties>
</file>