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AFAA-4251-4CA9-9451-D5FE39F8D241}" type="slidenum">
              <a:rPr b="0" lang="es-U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stado subsidia con menores impuestos a las inversiones del sector (ley de promocion de inver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aumentar el IMESI o introducir el IVA no se requiere ley, la igualación de la tasa nominal del IMESI con la efectiva permite subir el precio a más de $ 70 por paquete si se modifica progresivamente por el P.E la base impon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ito 1. No, porque los gastos del tabaco son entre el 6 y el 15% de los gastos sanitarios, y las perdidas de productividad pueden llegar a un 60% má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ito 2.  No, porque la tasa efectiva es menor a la nominal en el IMESI, y el tabaco está exonerado de IVA.  En el mundo Uruguay ocupa una situación intermedia.  Adem´s, el tabaco de armar paga muy po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ito 3: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ducción del IMESI del tabaco de armar desde un nivel de 60% en la decada del 70 a un nivel de 25- 27% a fines de los 80 no sirvió para combatir el contrabando, pero si aumentó el consumo, en 2004 era una cuarta parte del tot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so no ocurre en ninguna parte del mundo.  En el Uruguay la estimación de la elasticidad precio es similar a la de Argentina, Brasil y Chile, ronda el 0.5 en valor absoluto.  La evidencia de lo ocurrido despues del aumento del IMESI de Junio de 2005 (aumento de precios del 20%:  bajó el consumo 11% y subió la recaudación 12% frente al 2004, totalmente alineado con la predicción del model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arentemente, los aumentos de precios que se plantean por la industria no tienen los efectos que dicen tener:  frente al aumento reciente del P. ejecutivo (31 de mayo de 2005) que determinó un incremento del 10% en los cigarrillos, la industria respondio con otro 10% de a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abril de 2004 la industria elevo el precio de los cigarrillos un 2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alidad 3 .  E</a:t>
            </a:r>
            <a:r>
              <a:rPr b="0" lang="es-UY" sz="1200" spc="-1" strike="noStrike">
                <a:solidFill>
                  <a:srgbClr val="000000"/>
                </a:solidFill>
                <a:latin typeface="Arial"/>
              </a:rPr>
              <a:t>l contrabando mejora cuando se reduce la corrupción aduanera en los paises y aumentan los controles respectivos, y las ioncautaciones al contrabando mayor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alidad 4  - Si desapareciera el contrabando la recaudación aumentaría alrededor de un 8% (unos U$S 10 millones, como máximo), pero el consumo se reduciría fuertemente particularmente en los jóvenes y en las personas de menores ingre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C752F-4D59-431F-9071-5293081DB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4DA94-89CB-40A1-9188-1C3AECDBC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3D531-E8D8-47EC-83E3-1ADBFDCCF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F38F9-8F86-4C0C-B3D2-5888BB647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1B8A9-0788-41F9-BADC-C9F608F26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5E91C-3993-45DD-B7B5-C13592703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5499C-2FF6-4362-A300-0A6224332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1C757-06C7-4237-887A-3A7135408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2960C-199E-42C3-806D-A99598F03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E0DFC-0959-45F2-8263-FADAF506B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215AC-A58E-4079-91B7-38488CDA4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6FED9-D793-45B1-9D54-9CCFF2495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7634C-9918-4A6A-98FE-4253B6DFB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C3B3A-6D56-4B31-875E-BB376780F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3E4F5-6E17-4731-A8ED-2AC06BD19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9F466-7470-4BF2-A26C-F503F9697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4EE2E-8D8C-4980-A32A-621D7BDB4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1E2C8-48EF-4B3C-B111-01BFF80F6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E540-1CAF-4BEB-9CDA-667B461EA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4DB04-E108-4DBA-9A8D-352F6F6A7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1B362-3CB9-4A2F-AD57-F33C0E7A0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8428-FA4E-4FD6-B2A4-0D5D81266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7516-042C-430B-B64E-9BCB903A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C819-AC29-4C3A-BF52-B400B572E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E607-B726-4BE4-88CD-EFC133ACA428}" type="slidenum">
              <a:rPr b="0" lang="es-UY"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1C6B-CAE8-4D6D-84B6-503B05E3647D}" type="slidenum">
              <a:rPr b="0" lang="es-UY"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ho.org/Spanish/AD/SDE/RA/tab_estudios_Mercosur.ht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Día Mundial Sin Humo de Tabaco </a:t>
            </a:r>
            <a:br>
              <a:rPr sz="2800"/>
            </a:br>
            <a:r>
              <a:rPr b="1" lang="es-ES_tradnl" sz="2800" spc="-1" strike="noStrike">
                <a:solidFill>
                  <a:srgbClr val="ffffcc"/>
                </a:solidFill>
                <a:latin typeface="Arial"/>
              </a:rPr>
              <a:t>31 de Mayo 2006</a:t>
            </a:r>
            <a:endParaRPr b="0" lang="en-US" sz="2800" spc="-1" strike="noStrike">
              <a:solidFill>
                <a:srgbClr val="ffffcc"/>
              </a:solidFill>
              <a:latin typeface="Arial"/>
            </a:endParaRPr>
          </a:p>
        </p:txBody>
      </p:sp>
      <p:sp>
        <p:nvSpPr>
          <p:cNvPr id="122" name="PlaceHolder 2"/>
          <p:cNvSpPr>
            <a:spLocks noGrp="1"/>
          </p:cNvSpPr>
          <p:nvPr>
            <p:ph type="subTitle"/>
          </p:nvPr>
        </p:nvSpPr>
        <p:spPr>
          <a:xfrm>
            <a:off x="1402920" y="2276640"/>
            <a:ext cx="6545160" cy="3960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Economía del Control del Tabaco en los países de Mercosur y asociados </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URUGUAY</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Alejandro Ramos Carbajales</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Verdana"/>
              </a:rPr>
              <a:t>Dardo Curti</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u="sng">
                <a:solidFill>
                  <a:srgbClr val="eec85e"/>
                </a:solidFill>
                <a:uFillTx/>
                <a:latin typeface="Verdana"/>
                <a:hlinkClick r:id="rId1"/>
              </a:rPr>
              <a:t>Http://www.paho.org/Spanish/AD/SDE/RA/tab_estudios_Mercosur.htm</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recomendaciones</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Atender a politicas que tengan efectos favorables en lo sanitario y en lo económico en forma simultanea (costo efectivas). Plantear una política integral de control del tabaco, incluyendo los impuestos y sin subsidio a las inversiones en el sector.</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iedra angular: una política de aumento de los impuestos al tabaco, (incrementos del ingreso de los hogares aumenta la demanda de tabaco, elasticidad ingreso 0.7). IVA a tasa básica a los productos del tabaco.  Genera más de U$S 20 millones adicionales de recaudación.</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Reducir progresivamente la brecha entre el IMESI de tabaco para armar y el de cigarrillos</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Utilizar los fondos adicionales de recaudación para financiar nuevas estrategias en la política de control del tabaco (campañas masivas, campañas en las escuelas, clínicas para dejar de fumar, consejo médico, etc.)</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Peso relativo del sector tabaco en el Urugua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Las políticas costo efectivas para controlar el consumo de tabac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Política fiscal y contrabando.  Mitos y realida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Recomendacion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Peso relativo del sector tabaco en el Uruguay.</a:t>
            </a:r>
            <a:br>
              <a:rPr sz="4000"/>
            </a:br>
            <a:endParaRPr b="0" lang="en-US" sz="28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El peso relativo del sector tabaco en Uruguay es muy reducido</a:t>
            </a:r>
            <a:r>
              <a:rPr b="0" lang="es-ES_tradnl"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1500 puestos de trabajo entre sector primario e industrial. (En Brasil 620 mil y 57 mil en Argentina)</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se cultivan 350 hectáreas de tabaco en unas 150 explotaciones en Rivera y Artigas</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una planta de procesamiento primario en Rivera, dos plantas de producción de cigarrillos en Montevideo.</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la industria del tabaco representa el 1.3% del valor bruto de la producción manufacturera del país, y 1.5 del valor agregado bruto.  La mitad son ingresos brutos. (Censo Industrial 1997). Ocupación industrial: 0.3% de los trabajadores de la industria.</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Recaudación fiscal es el 4% de los ingresos de la DGI</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a:t>
            </a:r>
            <a:br>
              <a:rPr sz="3200"/>
            </a:br>
            <a:br>
              <a:rPr sz="3200"/>
            </a:br>
            <a:r>
              <a:rPr b="0" lang="es-ES_tradnl" sz="3200" spc="-1" strike="noStrike">
                <a:solidFill>
                  <a:srgbClr val="ffffcc"/>
                </a:solidFill>
                <a:latin typeface="Arial"/>
              </a:rPr>
              <a:t>¿Políticas control de tabaco reducirán la ocupación?</a:t>
            </a:r>
            <a:br>
              <a:rPr sz="3200"/>
            </a:br>
            <a:endParaRPr b="0" lang="en-US" sz="32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El peso relativo de la producción agrícola en el volumen de tabaco es muy reducido, inferior al 10%.</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El sector primario del tabaco se ha venido reduciendo desde su auge en la década de los 70</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El sector industrial se mueve con una óptica regional de mercado.  Dos plantas se fueron del Uruguay en 2003</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eaeaea"/>
                </a:solidFill>
                <a:latin typeface="Verdana"/>
              </a:rPr>
              <a:t>La experiencia de la lucha antitabaco en USA, donde la prevalencia cayó a la mitad en 30 años es que solo se pierden algunos puestos en el sector primario</a:t>
            </a:r>
            <a:endParaRPr b="0" lang="en-US" sz="2000" spc="-1" strike="noStrike">
              <a:solidFill>
                <a:srgbClr val="eaeaea"/>
              </a:solidFill>
              <a:latin typeface="Verdana"/>
            </a:endParaRPr>
          </a:p>
          <a:p>
            <a:pPr marL="343080" indent="-343080">
              <a:spcBef>
                <a:spcPts val="1250"/>
              </a:spcBef>
              <a:buClr>
                <a:srgbClr val="eaeaea"/>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eaeaea"/>
                </a:solidFill>
                <a:latin typeface="Verdana"/>
              </a:rPr>
              <a:t>aun las políticas mas exitosas de control de tabaco en el mundo tienen efectos en el largo plazo</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s-ES_tradnl" sz="2800" spc="-1" strike="noStrike">
                <a:solidFill>
                  <a:srgbClr val="ffffcc"/>
                </a:solidFill>
                <a:latin typeface="Arial"/>
              </a:rPr>
              <a:t>Las políticas costo efectivas para controlar el consumo de tabaco</a:t>
            </a:r>
            <a:r>
              <a:rPr b="0" lang="es-ES_tradnl" sz="4000" spc="-1" strike="noStrike">
                <a:solidFill>
                  <a:srgbClr val="ffffcc"/>
                </a:solidFill>
                <a:latin typeface="Arial"/>
              </a:rPr>
              <a:t>.</a:t>
            </a:r>
            <a:br>
              <a:rPr sz="4000"/>
            </a:br>
            <a:endParaRPr b="0" lang="en-US" sz="40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Costo efectividad.  Medida relativa de eficiencia, relaciona el costo comparado de dos medidas o intervenciones que tienen el mismo efecto sanitario. (ej: años de vida ganad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Medidas tomadas el 1 de Junio de 1995, ¿son costo efectiva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Medidas más costo efectivas en la literatura: </a:t>
            </a:r>
            <a:endParaRPr b="0" lang="en-US" sz="2000" spc="-1" strike="noStrike">
              <a:solidFill>
                <a:srgbClr val="eaeaea"/>
              </a:solidFill>
              <a:latin typeface="Verdana"/>
            </a:endParaRPr>
          </a:p>
          <a:p>
            <a:pPr lvl="1" marL="743040" indent="-285840">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apoyo para dejar de fumar embarazadas</a:t>
            </a:r>
            <a:endParaRPr b="0" lang="en-US" sz="1800" spc="-1" strike="noStrike">
              <a:solidFill>
                <a:srgbClr val="eaeaea"/>
              </a:solidFill>
              <a:latin typeface="Verdana"/>
            </a:endParaRPr>
          </a:p>
          <a:p>
            <a:pPr lvl="1" marL="743040" indent="-285840">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ídem operados del corazón</a:t>
            </a:r>
            <a:endParaRPr b="0" lang="en-US" sz="1800" spc="-1" strike="noStrike">
              <a:solidFill>
                <a:srgbClr val="eaeaea"/>
              </a:solidFill>
              <a:latin typeface="Verdana"/>
            </a:endParaRPr>
          </a:p>
          <a:p>
            <a:pPr lvl="1" marL="743040" indent="-285840">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controles de venta a menores</a:t>
            </a:r>
            <a:endParaRPr b="0" lang="en-US" sz="1800" spc="-1" strike="noStrike">
              <a:solidFill>
                <a:srgbClr val="eaeaea"/>
              </a:solidFill>
              <a:latin typeface="Verdana"/>
            </a:endParaRPr>
          </a:p>
          <a:p>
            <a:pPr lvl="1" marL="743040" indent="-285840">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campañas en TV para mayores y menores</a:t>
            </a:r>
            <a:endParaRPr b="0" lang="en-US" sz="1800" spc="-1" strike="noStrike">
              <a:solidFill>
                <a:srgbClr val="eaeaea"/>
              </a:solidFill>
              <a:latin typeface="Verdana"/>
            </a:endParaRPr>
          </a:p>
          <a:p>
            <a:pPr lvl="1" marL="743040" indent="-285840">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clínicas para dejar de fumar y otros apoyos específicos.</a:t>
            </a:r>
            <a:endParaRPr b="0" lang="en-US" sz="1800" spc="-1" strike="noStrike">
              <a:solidFill>
                <a:srgbClr val="eaeaea"/>
              </a:solidFill>
              <a:latin typeface="Verdana"/>
            </a:endParaRPr>
          </a:p>
          <a:p>
            <a:pPr lvl="1" marL="743040" indent="-285840">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aumentos del precio de los cigarrillos y productos del tabaco</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_tradnl" sz="2800" spc="-1" strike="noStrike">
                <a:solidFill>
                  <a:srgbClr val="ffffcc"/>
                </a:solidFill>
                <a:latin typeface="Arial"/>
              </a:rPr>
              <a:t>Las políticas costo efectivas para controlar el consumo de tabaco.</a:t>
            </a:r>
            <a:br>
              <a:rPr sz="2800"/>
            </a:br>
            <a:endParaRPr b="0" lang="en-US" sz="2800" spc="-1" strike="noStrike">
              <a:solidFill>
                <a:srgbClr val="ffffcc"/>
              </a:solidFill>
              <a:latin typeface="Arial"/>
            </a:endParaRPr>
          </a:p>
        </p:txBody>
      </p:sp>
      <p:sp>
        <p:nvSpPr>
          <p:cNvPr id="131"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Requisitos para aplicación:  recursos.  Ej.:  costo campañas en escuelas, clínicas, etc.</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Medida mas costo efectiva:  incremento de impuestos al tabaco que se reflejen en aumentos al consumidor (bajan el consumo y aumentan la recaudación)</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n el Uruguay, los estudios realizados muestran que por cada 10% de aumento del precio baja el consumo 5%, y sube la recaudación 5%.  Evidencia:  lo ocurrido en 2005</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Política fiscal y contrabando.  Mitos y realidades.</a:t>
            </a:r>
            <a:br>
              <a:rPr sz="2800"/>
            </a:br>
            <a:endParaRPr b="0" lang="en-US" sz="28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l Uruguay no ha tenido ni tiene aún una política de precios dentro de la política de control del tabaco. Para el B. Mundial y la OMS esta política es una de las piedras angulares de toda la estrategia. (CMCT, art. 6 inc. 1 y 2a)</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Diferencia entre la tasa nominal (70%) y la efectiva del IMESI (estimada en 63% en Uruguay para cigarrillos) por la base imponible utilizada.</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El IMESI nunca llegó al máximo legal y el IVA sigue a tasa 0%.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Diferencias entre imposición al cigarrillo (70%) y al tabaco de armar (28%) que implica un subsidio cruzad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Mitos</a:t>
            </a: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Mito 1.  El sector tabacalero uruguayo hace una fuerte contribución a la economía del paí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Mito 2. Los impuestos al tabaco en el Uruguay ya son muy altos.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Mito 3.  Las variaciones de precios al consumidor tienen un fuerte impacto sobre el contrabando.</a:t>
            </a:r>
            <a:endParaRPr b="0" lang="en-US" sz="24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La reducción del impuesto reduce el contrabando.  </a:t>
            </a: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 </a:t>
            </a:r>
            <a:r>
              <a:rPr b="0" lang="es-ES_tradnl" sz="2000" spc="-1" strike="noStrike">
                <a:solidFill>
                  <a:srgbClr val="eaeaea"/>
                </a:solidFill>
                <a:latin typeface="Verdana"/>
              </a:rPr>
              <a:t>Aumentos en el IMESI de cigarrillos aumentará el contrabando y bajará la recaudación fiscal.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Realidade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Realidad 1.  Los aumentos del precio del tabaco en todo el mundo son esenciales para desalentar consumo y mejorar recaudación fiscal.  Los antecedentes en los distintos países no plantean límites en la tasa de imposición (Curva de Laffer)</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Realidad 2.  En el mundo las tasas de imposición tienden a ser iguales para los diversos productos del tabaco; en el Uruguay se cobra menos impuestos (se subsidia) a los pobres y a los jóvenes para que fumen</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Realidad 3.  En el mundo el contrabando existe, pero se combate exitosamente solo a nivel mayorista y con acuerdos entre países limítrofes.  Los países que han intentado bajar el impuesto para enfrentar el contrabando han fracasado.</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Realidad 4. El combate del contrabando es prioritario por razones fiscales pero básicamente sanitarias.  (Fuerte reducción del consumo de los que utilizan este mercado: jóvenes, etc.</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1:25:45Z</dcterms:created>
  <dc:creator>Alejandro</dc:creator>
  <dc:description/>
  <dc:language>en-US</dc:language>
  <cp:lastModifiedBy>Programa Sida</cp:lastModifiedBy>
  <dcterms:modified xsi:type="dcterms:W3CDTF">2006-05-31T18:59:18Z</dcterms:modified>
  <cp:revision>8</cp:revision>
  <dc:subject/>
  <dc:title>Slide 1</dc:title>
</cp:coreProperties>
</file>