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47A-415F-4C01-92AF-9764FC54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C6E2-E211-4CAB-9350-A4A0F8EA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9E2-A87A-4BFF-880C-B4C3E4DF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382-F9A8-47FC-AC30-A44B75B6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C53-5AA9-4898-84A5-8DB9481B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F50-9935-4415-A3A0-9B3D9DEA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982-CDC6-4BF4-93B1-B2001F35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B32-E542-4CF9-80FC-02B4D700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507-B865-4236-94D6-5998178E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EEC-262F-43C3-AF86-48DFBFD6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C3A-E7AF-45E3-9953-B79D3195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3B7-063A-48D4-8840-307231D1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6AF8-CDC1-40BE-A851-968996E15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04280"/>
            <a:ext cx="6729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Tahoma"/>
              </a:rPr>
              <a:t>PROTAGONISMO JUVENIL PARA LA PREVENCION  DEL TABAQUISMO EN ESCUELAS PROMOTORAS DE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988320" y="5838840"/>
          <a:ext cx="1904760" cy="75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8320" y="5838840"/>
                    <a:ext cx="1904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50920" y="5445000"/>
          <a:ext cx="927000" cy="1297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445000"/>
                    <a:ext cx="9270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484360" y="2060640"/>
            <a:ext cx="4175280" cy="331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35280" y="5734080"/>
            <a:ext cx="4752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ffff"/>
                </a:solidFill>
                <a:latin typeface="Tahoma"/>
              </a:rPr>
              <a:t>Iniciativa Latinoameric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ffff"/>
                </a:solidFill>
                <a:latin typeface="Tahoma"/>
              </a:rPr>
              <a:t>Education Development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60360" y="322200"/>
          <a:ext cx="807552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22200"/>
                    <a:ext cx="807552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84360" y="617400"/>
          <a:ext cx="773568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17400"/>
                    <a:ext cx="77356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Los resultados del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560" y="1523520"/>
            <a:ext cx="7575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valuamo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desde indicadores de Promoción de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mpacto en e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 Proyecto Educativo de la Escuela, que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proyecto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traviese transversalmente las áreas de trabajo de la escuela y la com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Que promueva el desarrollo de habilidades para la vida (sociales, cognitivas, emocion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Que impacte positivamente en la capacidad de control sobre los determinantes de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se involucre a las familias y se sostenga la participación de los niños y niñ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facilite una política activa por los espacios “libre de hum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0920" y="5637240"/>
          <a:ext cx="927000" cy="129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637240"/>
                    <a:ext cx="9270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6988320" y="6099120"/>
          <a:ext cx="1904760" cy="758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8320" y="6099120"/>
                    <a:ext cx="1904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ffff"/>
                </a:solidFill>
                <a:latin typeface="Tahoma"/>
              </a:rPr>
              <a:t>Comparación de Conocimientos</a:t>
            </a:r>
            <a:br>
              <a:rPr sz="2000"/>
            </a:br>
            <a:r>
              <a:rPr b="1" lang="es-UY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s-UY" sz="2000" spc="-1" strike="noStrike">
                <a:solidFill>
                  <a:srgbClr val="ffffff"/>
                </a:solidFill>
                <a:latin typeface="Tahoma"/>
              </a:rPr>
              <a:t>respuestas correctas al cuestionario “Verdadero o Falso” realizado a niños y niñas participantes antes y después de la interven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55640" y="1981080"/>
          <a:ext cx="7702560" cy="4184640"/>
        </p:xfrm>
        <a:graphic>
          <a:graphicData uri="http://schemas.openxmlformats.org/drawingml/2006/table">
            <a:tbl>
              <a:tblPr/>
              <a:tblGrid>
                <a:gridCol w="5207040"/>
                <a:gridCol w="1284120"/>
                <a:gridCol w="1211400"/>
              </a:tblGrid>
              <a:tr h="5842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i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 propaganda de cigarrillos intenta convencer a la gente para que empiece a fuma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0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72000" rIns="72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o puedo hacer cosas para que las personas de mi barrio no fu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1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6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a las personas que fuman, es fácil dejar de fu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4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,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 yo no fumo y estoy en un lugar donde están fumando, a mí no me pasa 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7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5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 única enfermedad que produce el cigarrillo es el cán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,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5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384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ffff"/>
                </a:solidFill>
                <a:latin typeface="Tahoma"/>
              </a:rPr>
              <a:t>Comparación de Conocimientos</a:t>
            </a:r>
            <a:br>
              <a:rPr sz="2000"/>
            </a:br>
            <a:r>
              <a:rPr b="1" lang="es-UY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s-UY" sz="2000" spc="-1" strike="noStrike">
                <a:solidFill>
                  <a:srgbClr val="ffffff"/>
                </a:solidFill>
                <a:latin typeface="Tahoma"/>
              </a:rPr>
              <a:t>respuestas correctas al cuestionario “Verdadero o Falso” realizado a niños y niñas participantes antes y después de la interven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981080"/>
          <a:ext cx="7702560" cy="4029120"/>
        </p:xfrm>
        <a:graphic>
          <a:graphicData uri="http://schemas.openxmlformats.org/drawingml/2006/table">
            <a:tbl>
              <a:tblPr/>
              <a:tblGrid>
                <a:gridCol w="5207040"/>
                <a:gridCol w="1284120"/>
                <a:gridCol w="1211400"/>
              </a:tblGrid>
              <a:tr h="5842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i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rnos es fundamental para cambiar las cosas que no nos gu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5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4,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72000" rIns="72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y niños que no quieren fumar pero cuando sus amigos fuman, empiezan a fu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1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8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ffffff"/>
                </a:solidFill>
                <a:latin typeface="Tahoma"/>
              </a:rPr>
              <a:t>Cuando piensas en el inicio del proyecto…..</a:t>
            </a:r>
            <a:br>
              <a:rPr sz="2400"/>
            </a:br>
            <a:r>
              <a:rPr b="1" lang="es-UY" sz="2400" spc="-1" strike="noStrike">
                <a:solidFill>
                  <a:srgbClr val="ffffff"/>
                </a:solidFill>
                <a:latin typeface="Tahoma"/>
              </a:rPr>
              <a:t>¿cuánto sentís que has mejorado en las siguientes </a:t>
            </a:r>
            <a:r>
              <a:rPr b="1" lang="es-UY" sz="2400" spc="-1" strike="noStrike" u="sng">
                <a:solidFill>
                  <a:srgbClr val="ffffff"/>
                </a:solidFill>
                <a:uFillTx/>
                <a:latin typeface="Tahoma"/>
              </a:rPr>
              <a:t>habilidades</a:t>
            </a:r>
            <a:r>
              <a:rPr b="1" lang="es-UY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981080"/>
          <a:ext cx="7772400" cy="4562640"/>
        </p:xfrm>
        <a:graphic>
          <a:graphicData uri="http://schemas.openxmlformats.org/drawingml/2006/table">
            <a:tbl>
              <a:tblPr/>
              <a:tblGrid>
                <a:gridCol w="5470560"/>
                <a:gridCol w="1152360"/>
                <a:gridCol w="1149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r protagonista en la promoción de salud y prevención del tabaquis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fianza en vos mismo/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fianza en los otros/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blar en públ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abajar en equ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poner tus ideas a otros/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eptar ideas y opiniones de otras perso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r activ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e una experiencia piloto a una politica pública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en Promoción de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Integralidad: articulación con las políticas de salud, educación, desarrollo social, cultura, juventud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ej.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ue haya apoyo disponible para quienes decidan dejar de fum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Replicabilidad y puesta en escala: a traves de Alianzas nacionales y locales, públicas y privadas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movilización y confluencia de los recursos humanos, tecnicos, financie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Intervención acotada en tiempo y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Desarrollar capacidad de asistencia técnica y acompañamiento a los doc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Flexibilidad activa a las realidades de cada escu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988320" y="5838840"/>
          <a:ext cx="1904760" cy="75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8320" y="5838840"/>
                    <a:ext cx="1904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50920" y="5445000"/>
          <a:ext cx="927000" cy="1297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445000"/>
                    <a:ext cx="9270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98760" y="338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333360"/>
            <a:ext cx="7848360" cy="61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QUIPO DE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ffcc"/>
                </a:solidFill>
                <a:latin typeface="Tahoma"/>
              </a:rPr>
              <a:t>DIRECCIÓN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ag. Sergio Meresman - Soc. Juan José Mer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Tahoma"/>
              </a:rPr>
              <a:t>Mag.Wendy Santis -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ag. Tania Garcí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ffcc"/>
                </a:solidFill>
                <a:latin typeface="Tahoma"/>
              </a:rPr>
              <a:t>COORDINACIÓN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Dr. Antonio Pa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ffcc"/>
                </a:solidFill>
                <a:latin typeface="Tahoma"/>
              </a:rPr>
              <a:t>ASESORÍ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ic. Magdalena Palad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ffcc"/>
                </a:solidFill>
                <a:latin typeface="Tahoma"/>
              </a:rPr>
              <a:t>EDUC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st. Ps. Pablo Fernández - Prof. Natalia Maid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st. Ps. Serrana Vilaró - Ps. Claudia Reyn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POY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mbajada de los Estados Unidos -</a:t>
            </a:r>
            <a:r>
              <a:rPr b="0" lang="es-UY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Intendencia Municipal de Monte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1600" spc="-1" strike="noStrike">
                <a:solidFill>
                  <a:srgbClr val="ffffff"/>
                </a:solidFill>
                <a:latin typeface="Tahoma"/>
              </a:rPr>
              <a:t>New York Community Trust  -  Anna Whitco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3840" y="5373720"/>
          <a:ext cx="977760" cy="136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5373720"/>
                    <a:ext cx="9777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988320" y="5838840"/>
          <a:ext cx="1904760" cy="758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8320" y="5838840"/>
                    <a:ext cx="1904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1600" y="487440"/>
            <a:ext cx="34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00"/>
                </a:solidFill>
                <a:latin typeface="Tahoma"/>
              </a:rPr>
              <a:t>COMITÉ ASE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560" y="1752480"/>
            <a:ext cx="875016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ra. Graciela Moisso – Consejo de Educación Pri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s. Gabriela Olivera – Junta Nacional de Dro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ra. Beatriz Goja – Facultad de Med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ra. Adriana Blanco – Intendencia Municipal de Monte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r. Eduardo Bianco – Alianza para el Control del Tab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ra. Liliana Etchevarne – Ministerio de Salud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ro. Diego Rossi – Ministerio de Salud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r. Julio González – Organización Panamericana de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111120" y="388800"/>
            <a:ext cx="25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00"/>
                </a:solidFill>
                <a:latin typeface="Tahoma"/>
              </a:rPr>
              <a:t>PROPÓS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235800" y="1676520"/>
            <a:ext cx="9812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4000" spc="-1" strike="noStrike">
                <a:solidFill>
                  <a:srgbClr val="ffffff"/>
                </a:solidFill>
                <a:latin typeface="Tahoma"/>
              </a:rPr>
              <a:t>Ofrecer a niños</a:t>
            </a: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, niñas y </a:t>
            </a:r>
            <a:r>
              <a:rPr b="0" lang="es-UY" sz="4000" spc="-1" strike="noStrike">
                <a:solidFill>
                  <a:srgbClr val="ffffff"/>
                </a:solidFill>
                <a:latin typeface="Tahoma"/>
              </a:rPr>
              <a:t>adolescentes l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4000" spc="-1" strike="noStrike">
                <a:solidFill>
                  <a:srgbClr val="ffffff"/>
                </a:solidFill>
                <a:latin typeface="Tahoma"/>
              </a:rPr>
              <a:t>oportunidad de ser protagonistas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4000" spc="-1" strike="noStrike">
                <a:solidFill>
                  <a:srgbClr val="ffffff"/>
                </a:solidFill>
                <a:latin typeface="Tahoma"/>
              </a:rPr>
              <a:t>la promoción de su salud y la de 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4000" spc="-1" strike="noStrike">
                <a:solidFill>
                  <a:srgbClr val="ffffff"/>
                </a:solidFill>
                <a:latin typeface="Tahoma"/>
              </a:rPr>
              <a:t>pares con énfasis en la prevenci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UY" sz="4000" spc="-1" strike="noStrike">
                <a:solidFill>
                  <a:srgbClr val="ffffff"/>
                </a:solidFill>
                <a:latin typeface="Tahoma"/>
              </a:rPr>
              <a:t>del consumo de taba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988320" y="5838840"/>
          <a:ext cx="1904760" cy="75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8320" y="5838840"/>
                    <a:ext cx="1904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50920" y="5445000"/>
          <a:ext cx="927000" cy="1297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445000"/>
                    <a:ext cx="92700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3520" y="609480"/>
            <a:ext cx="557532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00"/>
                </a:solidFill>
                <a:latin typeface="Tahoma"/>
              </a:rPr>
              <a:t>Cobertura: proyecto pilo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00080" y="1981080"/>
          <a:ext cx="7140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981080"/>
                    <a:ext cx="7140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069640" y="152280"/>
            <a:ext cx="517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00"/>
                </a:solidFill>
                <a:latin typeface="Tahoma"/>
              </a:rPr>
              <a:t>PROGRAMA DE TRABAJ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20560"/>
            <a:ext cx="8778960" cy="59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ccffcc"/>
                </a:solidFill>
                <a:uFillTx/>
                <a:latin typeface="Tahoma"/>
              </a:rPr>
              <a:t>MÓDULO I: ENMARCANDO EL PROBL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aller 1: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Salud y Escuelas Promotoras de 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aller 2: </a:t>
            </a: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La verdad sobre el taba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ccffcc"/>
                </a:solidFill>
                <a:uFillTx/>
                <a:latin typeface="Tahoma"/>
              </a:rPr>
              <a:t>MÓDULO II: SALUD Y TABACO: FACTORES QUE DETERMINAN LA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aller 3: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El tabaco y la publi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aller 4: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Mapeando los mensajes sobre el taba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aller 5: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La voluntad, la libertad y los derechos de los fumadores y no fum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ccffcc"/>
                </a:solidFill>
                <a:uFillTx/>
                <a:latin typeface="Tahoma"/>
              </a:rPr>
              <a:t>MÓDULO III: DE LA COMPRENSIÓN AL PROTAGO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aller 6: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Movilización y defens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aller 7: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Creando EPS y ambientes 100% libres de humo de taba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aller 8: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Protagonizando nuestros propios proye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cc99"/>
                </a:solidFill>
                <a:latin typeface="Tahoma"/>
              </a:rPr>
              <a:t>Jornada esco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aller 9: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Mirando el camino recorr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76200" y="277920"/>
          <a:ext cx="8309160" cy="66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277920"/>
                    <a:ext cx="8309160" cy="66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1760" y="401760"/>
          <a:ext cx="7966080" cy="731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401760"/>
                    <a:ext cx="796608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401760"/>
          <a:ext cx="8126640" cy="61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01760"/>
                    <a:ext cx="8126640" cy="61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ograma Sida</cp:lastModifiedBy>
  <dcterms:modified xsi:type="dcterms:W3CDTF">2006-05-31T19:01:59Z</dcterms:modified>
  <cp:revision>116</cp:revision>
  <dc:subject/>
  <dc:title>Proyecto Piloto</dc:title>
</cp:coreProperties>
</file>