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E48-F23C-483A-9A95-97C4ED05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A35-C5CD-4077-B2D2-0DD1490E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6E6-9978-4165-B209-FDB605EC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0DF-811A-4167-BAE2-A5AA0485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BDB6-DF19-4EEE-AF7D-1885EAC9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15FE-7E9D-433F-986C-35E0FFEB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69AD-FB07-40AD-B9C1-1EEDCA67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F87-5341-4826-B178-41EE3A16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2E42-96F4-4AC1-891E-2A848819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A69A-7B80-4896-A3D1-A7EA0AC1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5743-7D68-4F5F-86CE-F06A0489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6A0-F313-424B-BA83-EF86F74C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C332-E370-4320-94FD-C504A8C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F4C2-7EFE-4944-83ED-F26E22A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5E0A-D4E8-4A0F-8657-D6A6FE12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4931-D195-4C48-8644-6E529379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2129-8427-4165-A3F7-255578CF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C56-9030-4FA5-82C8-D9D40FCF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B76-C77D-4F08-9BD1-0BDF102D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FA0-76F5-4368-A07C-525D2278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4F6-A063-42A9-8683-F8CE9171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C7F-B808-4D11-99C0-5BDED05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14B-A255-434C-94D1-4AF112A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6F0-2264-443F-9948-109ED6B2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773C-E7A7-4D51-9CBB-00F6045771FA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AD75-8F0B-417A-9097-2136730C7583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RQUE  LOS AMBIENTES LIBRES DE HUMO DE TABACO PROTEGEN LA SALUD DE TODOS: FUMADOR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Y NO FUMAD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AMOS GRACIA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ORANDO EL ESFUERZO DE QUIENES HAN DEJADO DE FUMAR EN ESPACIOS CERRA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9152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TRE EL 20 DE  FEBRER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 EL 7 D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RIL DE 2006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MOS REUNIDO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1.112.643     gracias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RQUE  LOS AMBIENTES LIBRES DE HUMO DE TABACO PROTEGEN LA SALUD DE TODOS: FUMADOR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Y NO FUMAD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AMOS GRACIA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ORANDO EL ESFUERZO DE QUIENES HAN DEJADO DE FUMAR EN ESPACIOS CERRA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9152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TRE EL 20 DE  FEBRER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 EL 7 D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RIL DE 2006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MOS REUNIDO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1.112.643     gracias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AMOS GRACIA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ORANDO EL ESFUERZO DE QUIENES HAN DEJADO DE FUMAR EN ESPACIOS CERRA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RQUE  LOS AMBIENTES LIBRES DE HUMO DE TABACO PROTEGEN LA SALUD DE TODOS: FUMADOR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Y NO FUMAD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AMOS GRACIA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ORANDO EL ESFUERZO DE QUIENES HAN DEJADO DE FUMAR EN ESPACIOS CERRA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9152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TRE EL 20 DE  FEBRER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 EL 7 D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RIL DE 2006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MOS REUNIDO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1.112.643     gracias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RQUE  LOS AMBIENTES LIBRES DE HUMO DE TABACO PROTEGEN LA SALUD DE TODOS: FUMADOR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Y NO FUMAD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9152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TRE EL 20 DE  FEBRER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 EL 7 D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RIL DE 2006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MOS REUNIDO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1.112.643     gracias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RQUE  LOS AMBIENTES LIBRES DE HUMO DE TABACO PROTEGEN LA SALUD DE TODOS: FUMADOR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Y NO FUMAD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AMOS GRACIA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ORANDO EL ESFUERZO DE QUIENES HAN DEJADO DE FUMAR EN ESPACIOS CERRA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9152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TRE EL 20 DE  FEBRER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 EL 7 D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RIL DE 2006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MOS REUNIDO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1.112.643     gracias!!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 advTm="10000">
    <p:blinds dir="horz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13:27:57Z</dcterms:created>
  <dc:creator>Ministerio</dc:creator>
  <dc:description/>
  <dc:language>en-US</dc:language>
  <cp:lastModifiedBy>Programa Sida</cp:lastModifiedBy>
  <dcterms:modified xsi:type="dcterms:W3CDTF">2006-05-31T18:54:16Z</dcterms:modified>
  <cp:revision>18</cp:revision>
  <dc:subject/>
  <dc:title>1.112.643     gracias!!!</dc:title>
</cp:coreProperties>
</file>