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9080" y="6591240"/>
            <a:ext cx="914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80880" y="64008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200" spc="-1" strike="noStrike">
                <a:solidFill>
                  <a:srgbClr val="ffffff"/>
                </a:solidFill>
                <a:latin typeface="Arial"/>
              </a:rPr>
              <a:t>PLAN ESTRATÉGICO 2006 –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553080"/>
            <a:ext cx="3733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200" spc="-1" strike="noStrike">
                <a:solidFill>
                  <a:srgbClr val="ffffff"/>
                </a:solidFill>
                <a:latin typeface="Arial"/>
              </a:rPr>
              <a:t>2006 - Año del Uruguay Produc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20120" y="0"/>
          <a:ext cx="144756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0"/>
                    <a:ext cx="14475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666880" y="64771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000" spc="-1" strike="noStrike">
                <a:solidFill>
                  <a:srgbClr val="ffffff"/>
                </a:solidFill>
                <a:latin typeface="Arial"/>
              </a:rPr>
              <a:t>www.cnd.org.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71500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Estratégico 2006-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24200"/>
            <a:ext cx="9144000" cy="0"/>
          </a:xfrm>
          <a:prstGeom prst="line">
            <a:avLst/>
          </a:prstGeom>
          <a:ln w="9360">
            <a:solidFill>
              <a:srgbClr val="fff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305240"/>
            <a:ext cx="9144000" cy="0"/>
          </a:xfrm>
          <a:prstGeom prst="line">
            <a:avLst/>
          </a:prstGeom>
          <a:ln w="9360">
            <a:solidFill>
              <a:srgbClr val="fff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54920" y="1863720"/>
            <a:ext cx="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175440"/>
            <a:ext cx="2667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www.cnd.org.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609480"/>
          <a:ext cx="685800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68580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1860480"/>
          <a:ext cx="8305560" cy="46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60480"/>
                    <a:ext cx="830556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 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sultados acumulados por tipo</a:t>
            </a:r>
            <a:br>
              <a:rPr sz="24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99"/>
                </a:solidFill>
                <a:latin typeface="Arial"/>
              </a:rPr>
              <a:t>Millones de Dólares – Periodo 1986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382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4332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44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818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33520" y="1860480"/>
          <a:ext cx="8305560" cy="46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60480"/>
                    <a:ext cx="830556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 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sultados acumulados por tipo</a:t>
            </a:r>
            <a:br>
              <a:rPr sz="24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99"/>
                </a:solidFill>
                <a:latin typeface="Arial"/>
              </a:rPr>
              <a:t>Millones de Dólares – Periodo 1986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82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332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244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818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4240" y="274320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Financieros y otros  2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1860480"/>
          <a:ext cx="8305560" cy="46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60480"/>
                    <a:ext cx="830556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 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sultados acumulados por tipo</a:t>
            </a:r>
            <a:br>
              <a:rPr sz="24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99"/>
                </a:solidFill>
                <a:latin typeface="Arial"/>
              </a:rPr>
              <a:t>Millones de Dólares – Periodo 1986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82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332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4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18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4960" y="31845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Gtos.adm. (19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4240" y="274320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Financieros y otros  2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3520" y="1854360"/>
          <a:ext cx="830556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54360"/>
                    <a:ext cx="83055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 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sultados acumulados por tipo</a:t>
            </a:r>
            <a:br>
              <a:rPr sz="24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99"/>
                </a:solidFill>
                <a:latin typeface="Arial"/>
              </a:rPr>
              <a:t>Millones de Dólares – Periodo 1986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82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4332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244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8180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9840" y="380988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Resultados Inversiones (62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4960" y="31845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Gtos.adm. (19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4240" y="274320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Financieros y otros  2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1144440"/>
            <a:ext cx="7829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ccccff"/>
                </a:solidFill>
                <a:uFillTx/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Naturalez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Objetivos le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ccccff"/>
                </a:solidFill>
                <a:uFillTx/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Análisis F. O. D.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Resultados hist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Propue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Líneas d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Visión actual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-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- Iniciativas en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- 40 acciones para una nueva C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Objetivos generale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Organi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1736640"/>
            <a:ext cx="6343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Honestidad, ética y solida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Vocación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Compromiso con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Espíritu de mejora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Inici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UY" sz="2000" spc="-1" strike="noStrike">
                <a:solidFill>
                  <a:srgbClr val="000099"/>
                </a:solidFill>
                <a:latin typeface="Arial"/>
              </a:rPr>
              <a:t>Sentimiento de perten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76320"/>
            <a:ext cx="5943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175280"/>
            <a:ext cx="8762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Apoyo e impulso de emprendimi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Indirecto : Micro, pequeñas y medianas empresas - MIPY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320"/>
            <a:ext cx="609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Línea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27672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Articulación y gestión de proyectos público privados (P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42244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Recuperación de capacidad insta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5843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Asesoramiento y gestión de activos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0" y="170028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14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1 - Estructuración Jurídica. Asesoramiento financiero, jurídico,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76320"/>
            <a:ext cx="6400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Productos y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19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7 - Administración de activos de terceros (fiduc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4290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5 - Financiami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51 Asesor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52 Garant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53 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54 Búsqueda de invers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55 Fondos de capital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6 - Participación accio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00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2 - Apoyo en la profesionalización de planes d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3 - Gerenciamiento de excel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31 S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32 Gerenci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99"/>
                </a:solidFill>
                <a:latin typeface="Arial"/>
              </a:rPr>
              <a:t>S4 -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3880" y="1752480"/>
            <a:ext cx="8332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000099"/>
                </a:solidFill>
                <a:uFillTx/>
                <a:latin typeface="Arial"/>
              </a:rPr>
              <a:t>Como banca de segundo pis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Impulsar la participación de IFs reguladas en el financiamiento de las Mipy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Desarrollar IFs no regu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76320"/>
            <a:ext cx="6400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Micro, pequeñas y median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1219320"/>
            <a:ext cx="3809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Tres grandes líneas de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638680"/>
            <a:ext cx="83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000099"/>
                </a:solidFill>
                <a:uFillTx/>
                <a:latin typeface="Arial"/>
              </a:rPr>
              <a:t>Apoyo a los procesos de coordinación institucional de los programas de desarrollo empresa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3880" y="3124080"/>
            <a:ext cx="833292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000099"/>
                </a:solidFill>
                <a:uFillTx/>
                <a:latin typeface="Arial"/>
              </a:rPr>
              <a:t>Mejora de las condiciones de acceso al financiamient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Fondo de garantía de créd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Promoción de la asocia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Apoyo a la formalización y bancarización de las Mipym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Apoyo a procesos de cer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Apoyo a procesos de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Central de información para resolver asimetrías exist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Programa de desarrollo de 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1143000"/>
            <a:ext cx="7848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158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posicionar a la CND como Agencia de Desarrollo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18916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I.   Banca de segundo piso para Mipymes y agente promotor de las microfinan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76320"/>
            <a:ext cx="4876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Visión Actual - Res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819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II.  Articulación de los esfuerzos de apoyo al sector Mipymes, a través del fomento de la asociatividad, competitividad e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657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III. Estructuración de proyectos de inversión para recuperación de capacidad insta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419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IV. Articulación de negocios público privados, como gestor de proyectos y agente fiduc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181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.  Agente fiduciario y gestor de activos reales y financieros del sector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7913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I. Colaboración en el desarrollo d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7160" y="1144440"/>
            <a:ext cx="7829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Naturalez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Objetivos le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Análisis F. O. D.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Resultados hist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Propue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Líneas d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Visión actual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-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- Iniciativas en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- 40 acciones para una nueva C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Objetivos generale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Organi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1143000"/>
            <a:ext cx="7848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0"/>
            <a:ext cx="851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I. Banca de segundo piso para Mipymes y agente promotor de las microfinan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eo BID microfinan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eo préstamo españ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eo préstamo ital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eo fondos propios (MEF - Corpor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eo C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o de Garantía de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levamiento instituciones primer p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arjeta BROU - CND - Mip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os para profesionalización de estudio de planes 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os para capital sem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ondos para capital de riesgo para P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76320"/>
            <a:ext cx="6477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Visión Actual - Iniciativas en mar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58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posicionar a la CND como Agencia de Desarrollo 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143000"/>
            <a:ext cx="7848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76320"/>
            <a:ext cx="6019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Visión Actual - Iniciativas en mar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35240"/>
            <a:ext cx="853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II.</a:t>
            </a:r>
            <a:r>
              <a:rPr b="1" i="1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Articulación de los esfuerzos de apoyo al sector Mipymes, a través del fomento de la asociatividad, competitividad e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rticulación de servicios no financieros de apoyo empresa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dificio CND: Infraestructura y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dificio CND: Calidad – Latu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dificio CND: Innovación - Agencia de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dificio CND: Emprendedurismo - Programa B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dificio CND: Oficina de asistencia y promoción Sector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d de desarrollo nacional - Agencias de desarrollo d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SO 9000 para P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lan estratégico del sector tex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arque Industrial de Pando - Polo Tecnológico de P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torno Voluntario - Remesas d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158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posicionar a la CND como Agencia de Desarrollo 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1143000"/>
            <a:ext cx="7848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828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IV. Articulación de negocios público privados, como gestor de proyectos y agente fiduc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Gestión Corporación Vial del Uruguay 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oyecto pesca artesa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oyecto ferrocarr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oyecto Puerto de Monte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76320"/>
            <a:ext cx="6019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Visión Actual - Iniciativas en mar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057400"/>
            <a:ext cx="8286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III.</a:t>
            </a:r>
            <a:r>
              <a:rPr b="1" i="1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structuración de proyectos de inversión para recuperación de capacidad insta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Gestión Agolán S.A. (Juan Laca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Gestión Alur S.A. (Bella Un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Gestión y venta Cedetex (Cardo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Venta Calvinor (Bella Un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Venta Central Apícola (San Jos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Búsqueda de inver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158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posicionar a la CND como Agencia de Desarrollo 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143000"/>
            <a:ext cx="7848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76320"/>
            <a:ext cx="6019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Visión Actual - Iniciativas en mar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28600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V. Agente fiduciario y gestor de activos reales y financieros del sector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dministración fondos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dministración fondos proyecto Torre Ejec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dministración activos I.M.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419112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VI. Colaboración en el desarrollo d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misión Obligaciones Corporación Vial del Uruguay 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misiones futuras - CND fiduci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oyecto de descuento cheques diferidos en B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otización en bolsa de empresas C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articipación privada en el capital de la C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158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posicionar a la CND como Agencia de Desarrollo 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76320"/>
            <a:ext cx="6019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40 acciones para una nueva C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130400"/>
            <a:ext cx="883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1338120"/>
            <a:ext cx="7372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Resultados netos positiv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Incremento de la participación de ingresos por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Mejora de los ingres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Austeridad en el ga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76320"/>
            <a:ext cx="6019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Objetivos generales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868560"/>
            <a:ext cx="73724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Análisis de cartera - Riesgo moder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ón profesional de los riesgos globales de la C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isión de cartera o portafolio de l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structura de financiamiento con riesgo 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76320"/>
            <a:ext cx="6019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Propuesta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Organi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600" y="1143000"/>
            <a:ext cx="913140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26160" y="4390920"/>
            <a:ext cx="253800" cy="515880"/>
          </a:xfrm>
          <a:custGeom>
            <a:avLst/>
            <a:gdLst/>
            <a:ahLst/>
            <a:rect l="l" t="t" r="r" b="b"/>
            <a:pathLst>
              <a:path w="160" h="325">
                <a:moveTo>
                  <a:pt x="160" y="325"/>
                </a:moveTo>
                <a:lnTo>
                  <a:pt x="160" y="304"/>
                </a:lnTo>
                <a:lnTo>
                  <a:pt x="8" y="304"/>
                </a:lnTo>
                <a:lnTo>
                  <a:pt x="8" y="311"/>
                </a:lnTo>
                <a:lnTo>
                  <a:pt x="25" y="311"/>
                </a:lnTo>
                <a:lnTo>
                  <a:pt x="25" y="0"/>
                </a:lnTo>
                <a:lnTo>
                  <a:pt x="0" y="0"/>
                </a:lnTo>
                <a:lnTo>
                  <a:pt x="0" y="311"/>
                </a:lnTo>
                <a:lnTo>
                  <a:pt x="0" y="325"/>
                </a:lnTo>
                <a:lnTo>
                  <a:pt x="8" y="325"/>
                </a:lnTo>
                <a:lnTo>
                  <a:pt x="160" y="3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26160" y="4390920"/>
            <a:ext cx="253800" cy="206640"/>
          </a:xfrm>
          <a:custGeom>
            <a:avLst/>
            <a:gdLst/>
            <a:ahLst/>
            <a:rect l="l" t="t" r="r" b="b"/>
            <a:pathLst>
              <a:path w="160" h="130">
                <a:moveTo>
                  <a:pt x="160" y="130"/>
                </a:moveTo>
                <a:lnTo>
                  <a:pt x="160" y="109"/>
                </a:lnTo>
                <a:lnTo>
                  <a:pt x="8" y="109"/>
                </a:lnTo>
                <a:lnTo>
                  <a:pt x="8" y="116"/>
                </a:lnTo>
                <a:lnTo>
                  <a:pt x="25" y="116"/>
                </a:lnTo>
                <a:lnTo>
                  <a:pt x="25" y="0"/>
                </a:lnTo>
                <a:lnTo>
                  <a:pt x="0" y="0"/>
                </a:lnTo>
                <a:lnTo>
                  <a:pt x="0" y="116"/>
                </a:lnTo>
                <a:lnTo>
                  <a:pt x="0" y="130"/>
                </a:lnTo>
                <a:lnTo>
                  <a:pt x="8" y="130"/>
                </a:lnTo>
                <a:lnTo>
                  <a:pt x="160" y="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38960" y="3162240"/>
            <a:ext cx="268200" cy="517680"/>
          </a:xfrm>
          <a:custGeom>
            <a:avLst/>
            <a:gdLst/>
            <a:ahLst/>
            <a:rect l="l" t="t" r="r" b="b"/>
            <a:pathLst>
              <a:path w="169" h="326">
                <a:moveTo>
                  <a:pt x="169" y="326"/>
                </a:moveTo>
                <a:lnTo>
                  <a:pt x="169" y="304"/>
                </a:lnTo>
                <a:lnTo>
                  <a:pt x="9" y="304"/>
                </a:lnTo>
                <a:lnTo>
                  <a:pt x="9" y="311"/>
                </a:lnTo>
                <a:lnTo>
                  <a:pt x="25" y="311"/>
                </a:lnTo>
                <a:lnTo>
                  <a:pt x="25" y="0"/>
                </a:lnTo>
                <a:lnTo>
                  <a:pt x="0" y="0"/>
                </a:lnTo>
                <a:lnTo>
                  <a:pt x="0" y="311"/>
                </a:lnTo>
                <a:lnTo>
                  <a:pt x="0" y="326"/>
                </a:lnTo>
                <a:lnTo>
                  <a:pt x="9" y="326"/>
                </a:lnTo>
                <a:lnTo>
                  <a:pt x="169" y="3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38960" y="3162240"/>
            <a:ext cx="268200" cy="208080"/>
          </a:xfrm>
          <a:custGeom>
            <a:avLst/>
            <a:gdLst/>
            <a:ahLst/>
            <a:rect l="l" t="t" r="r" b="b"/>
            <a:pathLst>
              <a:path w="169" h="131">
                <a:moveTo>
                  <a:pt x="169" y="131"/>
                </a:moveTo>
                <a:lnTo>
                  <a:pt x="169" y="109"/>
                </a:lnTo>
                <a:lnTo>
                  <a:pt x="9" y="109"/>
                </a:lnTo>
                <a:lnTo>
                  <a:pt x="9" y="116"/>
                </a:lnTo>
                <a:lnTo>
                  <a:pt x="25" y="116"/>
                </a:lnTo>
                <a:lnTo>
                  <a:pt x="25" y="0"/>
                </a:lnTo>
                <a:lnTo>
                  <a:pt x="0" y="0"/>
                </a:lnTo>
                <a:lnTo>
                  <a:pt x="0" y="116"/>
                </a:lnTo>
                <a:lnTo>
                  <a:pt x="0" y="131"/>
                </a:lnTo>
                <a:lnTo>
                  <a:pt x="9" y="131"/>
                </a:lnTo>
                <a:lnTo>
                  <a:pt x="169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97280" y="3162240"/>
            <a:ext cx="266760" cy="1160640"/>
          </a:xfrm>
          <a:custGeom>
            <a:avLst/>
            <a:gdLst/>
            <a:ahLst/>
            <a:rect l="l" t="t" r="r" b="b"/>
            <a:pathLst>
              <a:path w="168" h="731">
                <a:moveTo>
                  <a:pt x="168" y="731"/>
                </a:moveTo>
                <a:lnTo>
                  <a:pt x="168" y="709"/>
                </a:lnTo>
                <a:lnTo>
                  <a:pt x="8" y="709"/>
                </a:lnTo>
                <a:lnTo>
                  <a:pt x="8" y="716"/>
                </a:lnTo>
                <a:lnTo>
                  <a:pt x="25" y="716"/>
                </a:lnTo>
                <a:lnTo>
                  <a:pt x="25" y="0"/>
                </a:lnTo>
                <a:lnTo>
                  <a:pt x="0" y="0"/>
                </a:lnTo>
                <a:lnTo>
                  <a:pt x="0" y="716"/>
                </a:lnTo>
                <a:lnTo>
                  <a:pt x="0" y="731"/>
                </a:lnTo>
                <a:lnTo>
                  <a:pt x="8" y="731"/>
                </a:lnTo>
                <a:lnTo>
                  <a:pt x="168" y="7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97280" y="3162240"/>
            <a:ext cx="266760" cy="838440"/>
          </a:xfrm>
          <a:custGeom>
            <a:avLst/>
            <a:gdLst/>
            <a:ahLst/>
            <a:rect l="l" t="t" r="r" b="b"/>
            <a:pathLst>
              <a:path w="168" h="528">
                <a:moveTo>
                  <a:pt x="168" y="528"/>
                </a:moveTo>
                <a:lnTo>
                  <a:pt x="168" y="507"/>
                </a:lnTo>
                <a:lnTo>
                  <a:pt x="8" y="507"/>
                </a:lnTo>
                <a:lnTo>
                  <a:pt x="8" y="514"/>
                </a:lnTo>
                <a:lnTo>
                  <a:pt x="25" y="514"/>
                </a:lnTo>
                <a:lnTo>
                  <a:pt x="25" y="0"/>
                </a:lnTo>
                <a:lnTo>
                  <a:pt x="0" y="0"/>
                </a:lnTo>
                <a:lnTo>
                  <a:pt x="0" y="514"/>
                </a:lnTo>
                <a:lnTo>
                  <a:pt x="0" y="528"/>
                </a:lnTo>
                <a:lnTo>
                  <a:pt x="8" y="528"/>
                </a:lnTo>
                <a:lnTo>
                  <a:pt x="168" y="5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97280" y="3162240"/>
            <a:ext cx="266760" cy="528840"/>
          </a:xfrm>
          <a:custGeom>
            <a:avLst/>
            <a:gdLst/>
            <a:ahLst/>
            <a:rect l="l" t="t" r="r" b="b"/>
            <a:pathLst>
              <a:path w="168" h="333">
                <a:moveTo>
                  <a:pt x="168" y="333"/>
                </a:moveTo>
                <a:lnTo>
                  <a:pt x="168" y="311"/>
                </a:lnTo>
                <a:lnTo>
                  <a:pt x="8" y="311"/>
                </a:lnTo>
                <a:lnTo>
                  <a:pt x="8" y="319"/>
                </a:lnTo>
                <a:lnTo>
                  <a:pt x="25" y="319"/>
                </a:lnTo>
                <a:lnTo>
                  <a:pt x="25" y="0"/>
                </a:lnTo>
                <a:lnTo>
                  <a:pt x="0" y="0"/>
                </a:lnTo>
                <a:lnTo>
                  <a:pt x="0" y="319"/>
                </a:lnTo>
                <a:lnTo>
                  <a:pt x="0" y="333"/>
                </a:lnTo>
                <a:lnTo>
                  <a:pt x="8" y="333"/>
                </a:lnTo>
                <a:lnTo>
                  <a:pt x="168" y="3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7280" y="3162240"/>
            <a:ext cx="266760" cy="20808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8" y="131"/>
                </a:moveTo>
                <a:lnTo>
                  <a:pt x="168" y="109"/>
                </a:lnTo>
                <a:lnTo>
                  <a:pt x="8" y="109"/>
                </a:lnTo>
                <a:lnTo>
                  <a:pt x="8" y="116"/>
                </a:lnTo>
                <a:lnTo>
                  <a:pt x="25" y="116"/>
                </a:lnTo>
                <a:lnTo>
                  <a:pt x="25" y="0"/>
                </a:lnTo>
                <a:lnTo>
                  <a:pt x="0" y="0"/>
                </a:lnTo>
                <a:lnTo>
                  <a:pt x="0" y="116"/>
                </a:lnTo>
                <a:lnTo>
                  <a:pt x="0" y="131"/>
                </a:lnTo>
                <a:lnTo>
                  <a:pt x="8" y="131"/>
                </a:lnTo>
                <a:lnTo>
                  <a:pt x="168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3747960"/>
            <a:ext cx="266400" cy="528840"/>
          </a:xfrm>
          <a:custGeom>
            <a:avLst/>
            <a:gdLst/>
            <a:ahLst/>
            <a:rect l="l" t="t" r="r" b="b"/>
            <a:pathLst>
              <a:path w="168" h="333">
                <a:moveTo>
                  <a:pt x="168" y="333"/>
                </a:moveTo>
                <a:lnTo>
                  <a:pt x="168" y="311"/>
                </a:lnTo>
                <a:lnTo>
                  <a:pt x="8" y="311"/>
                </a:lnTo>
                <a:lnTo>
                  <a:pt x="8" y="318"/>
                </a:lnTo>
                <a:lnTo>
                  <a:pt x="25" y="318"/>
                </a:lnTo>
                <a:lnTo>
                  <a:pt x="25" y="0"/>
                </a:lnTo>
                <a:lnTo>
                  <a:pt x="0" y="0"/>
                </a:lnTo>
                <a:lnTo>
                  <a:pt x="0" y="318"/>
                </a:lnTo>
                <a:lnTo>
                  <a:pt x="0" y="333"/>
                </a:lnTo>
                <a:lnTo>
                  <a:pt x="8" y="333"/>
                </a:lnTo>
                <a:lnTo>
                  <a:pt x="168" y="3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5440" y="3747960"/>
            <a:ext cx="266400" cy="219240"/>
          </a:xfrm>
          <a:custGeom>
            <a:avLst/>
            <a:gdLst/>
            <a:ahLst/>
            <a:rect l="l" t="t" r="r" b="b"/>
            <a:pathLst>
              <a:path w="168" h="138">
                <a:moveTo>
                  <a:pt x="168" y="138"/>
                </a:moveTo>
                <a:lnTo>
                  <a:pt x="168" y="116"/>
                </a:lnTo>
                <a:lnTo>
                  <a:pt x="8" y="116"/>
                </a:lnTo>
                <a:lnTo>
                  <a:pt x="8" y="123"/>
                </a:lnTo>
                <a:lnTo>
                  <a:pt x="25" y="123"/>
                </a:lnTo>
                <a:lnTo>
                  <a:pt x="25" y="0"/>
                </a:lnTo>
                <a:lnTo>
                  <a:pt x="0" y="0"/>
                </a:lnTo>
                <a:lnTo>
                  <a:pt x="0" y="123"/>
                </a:lnTo>
                <a:lnTo>
                  <a:pt x="0" y="138"/>
                </a:lnTo>
                <a:lnTo>
                  <a:pt x="8" y="138"/>
                </a:lnTo>
                <a:lnTo>
                  <a:pt x="168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160" y="3162240"/>
            <a:ext cx="254160" cy="1757520"/>
          </a:xfrm>
          <a:custGeom>
            <a:avLst/>
            <a:gdLst/>
            <a:ahLst/>
            <a:rect l="l" t="t" r="r" b="b"/>
            <a:pathLst>
              <a:path w="160" h="1107">
                <a:moveTo>
                  <a:pt x="160" y="1107"/>
                </a:moveTo>
                <a:lnTo>
                  <a:pt x="160" y="1085"/>
                </a:lnTo>
                <a:lnTo>
                  <a:pt x="8" y="1085"/>
                </a:lnTo>
                <a:lnTo>
                  <a:pt x="8" y="1092"/>
                </a:lnTo>
                <a:lnTo>
                  <a:pt x="25" y="1092"/>
                </a:lnTo>
                <a:lnTo>
                  <a:pt x="25" y="0"/>
                </a:lnTo>
                <a:lnTo>
                  <a:pt x="0" y="0"/>
                </a:lnTo>
                <a:lnTo>
                  <a:pt x="0" y="1092"/>
                </a:lnTo>
                <a:lnTo>
                  <a:pt x="0" y="1107"/>
                </a:lnTo>
                <a:lnTo>
                  <a:pt x="8" y="1107"/>
                </a:lnTo>
                <a:lnTo>
                  <a:pt x="160" y="1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160" y="3162240"/>
            <a:ext cx="254160" cy="1446120"/>
          </a:xfrm>
          <a:custGeom>
            <a:avLst/>
            <a:gdLst/>
            <a:ahLst/>
            <a:rect l="l" t="t" r="r" b="b"/>
            <a:pathLst>
              <a:path w="160" h="911">
                <a:moveTo>
                  <a:pt x="160" y="911"/>
                </a:moveTo>
                <a:lnTo>
                  <a:pt x="160" y="890"/>
                </a:lnTo>
                <a:lnTo>
                  <a:pt x="8" y="890"/>
                </a:lnTo>
                <a:lnTo>
                  <a:pt x="8" y="897"/>
                </a:lnTo>
                <a:lnTo>
                  <a:pt x="25" y="897"/>
                </a:lnTo>
                <a:lnTo>
                  <a:pt x="25" y="0"/>
                </a:lnTo>
                <a:lnTo>
                  <a:pt x="0" y="0"/>
                </a:lnTo>
                <a:lnTo>
                  <a:pt x="0" y="897"/>
                </a:lnTo>
                <a:lnTo>
                  <a:pt x="0" y="911"/>
                </a:lnTo>
                <a:lnTo>
                  <a:pt x="8" y="911"/>
                </a:lnTo>
                <a:lnTo>
                  <a:pt x="160" y="9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9160" y="3162240"/>
            <a:ext cx="254160" cy="517680"/>
          </a:xfrm>
          <a:custGeom>
            <a:avLst/>
            <a:gdLst/>
            <a:ahLst/>
            <a:rect l="l" t="t" r="r" b="b"/>
            <a:pathLst>
              <a:path w="160" h="326">
                <a:moveTo>
                  <a:pt x="160" y="326"/>
                </a:moveTo>
                <a:lnTo>
                  <a:pt x="160" y="304"/>
                </a:lnTo>
                <a:lnTo>
                  <a:pt x="8" y="304"/>
                </a:lnTo>
                <a:lnTo>
                  <a:pt x="8" y="311"/>
                </a:lnTo>
                <a:lnTo>
                  <a:pt x="25" y="311"/>
                </a:lnTo>
                <a:lnTo>
                  <a:pt x="25" y="0"/>
                </a:lnTo>
                <a:lnTo>
                  <a:pt x="0" y="0"/>
                </a:lnTo>
                <a:lnTo>
                  <a:pt x="0" y="311"/>
                </a:lnTo>
                <a:lnTo>
                  <a:pt x="0" y="326"/>
                </a:lnTo>
                <a:lnTo>
                  <a:pt x="8" y="326"/>
                </a:lnTo>
                <a:lnTo>
                  <a:pt x="160" y="3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9160" y="3162240"/>
            <a:ext cx="254160" cy="208080"/>
          </a:xfrm>
          <a:custGeom>
            <a:avLst/>
            <a:gdLst/>
            <a:ahLst/>
            <a:rect l="l" t="t" r="r" b="b"/>
            <a:pathLst>
              <a:path w="160" h="131">
                <a:moveTo>
                  <a:pt x="160" y="131"/>
                </a:moveTo>
                <a:lnTo>
                  <a:pt x="160" y="109"/>
                </a:lnTo>
                <a:lnTo>
                  <a:pt x="8" y="109"/>
                </a:lnTo>
                <a:lnTo>
                  <a:pt x="8" y="116"/>
                </a:lnTo>
                <a:lnTo>
                  <a:pt x="25" y="116"/>
                </a:lnTo>
                <a:lnTo>
                  <a:pt x="25" y="0"/>
                </a:lnTo>
                <a:lnTo>
                  <a:pt x="0" y="0"/>
                </a:lnTo>
                <a:lnTo>
                  <a:pt x="0" y="116"/>
                </a:lnTo>
                <a:lnTo>
                  <a:pt x="0" y="131"/>
                </a:lnTo>
                <a:lnTo>
                  <a:pt x="8" y="131"/>
                </a:lnTo>
                <a:lnTo>
                  <a:pt x="160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5000" y="2876400"/>
            <a:ext cx="2833560" cy="92160"/>
          </a:xfrm>
          <a:custGeom>
            <a:avLst/>
            <a:gdLst/>
            <a:ahLst/>
            <a:rect l="l" t="t" r="r" b="b"/>
            <a:pathLst>
              <a:path w="1785" h="58">
                <a:moveTo>
                  <a:pt x="1760" y="58"/>
                </a:moveTo>
                <a:lnTo>
                  <a:pt x="1785" y="58"/>
                </a:lnTo>
                <a:lnTo>
                  <a:pt x="1785" y="29"/>
                </a:lnTo>
                <a:lnTo>
                  <a:pt x="1785" y="21"/>
                </a:lnTo>
                <a:lnTo>
                  <a:pt x="1769" y="21"/>
                </a:lnTo>
                <a:lnTo>
                  <a:pt x="9" y="21"/>
                </a:lnTo>
                <a:lnTo>
                  <a:pt x="9" y="29"/>
                </a:lnTo>
                <a:lnTo>
                  <a:pt x="25" y="29"/>
                </a:lnTo>
                <a:lnTo>
                  <a:pt x="25" y="0"/>
                </a:lnTo>
                <a:lnTo>
                  <a:pt x="0" y="0"/>
                </a:lnTo>
                <a:lnTo>
                  <a:pt x="0" y="29"/>
                </a:lnTo>
                <a:lnTo>
                  <a:pt x="0" y="43"/>
                </a:lnTo>
                <a:lnTo>
                  <a:pt x="9" y="43"/>
                </a:lnTo>
                <a:lnTo>
                  <a:pt x="1769" y="43"/>
                </a:lnTo>
                <a:lnTo>
                  <a:pt x="1769" y="29"/>
                </a:lnTo>
                <a:lnTo>
                  <a:pt x="1760" y="29"/>
                </a:lnTo>
                <a:lnTo>
                  <a:pt x="176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160" y="2876400"/>
            <a:ext cx="3835440" cy="92160"/>
          </a:xfrm>
          <a:custGeom>
            <a:avLst/>
            <a:gdLst/>
            <a:ahLst/>
            <a:rect l="l" t="t" r="r" b="b"/>
            <a:pathLst>
              <a:path w="2416" h="58">
                <a:moveTo>
                  <a:pt x="0" y="58"/>
                </a:moveTo>
                <a:lnTo>
                  <a:pt x="25" y="58"/>
                </a:lnTo>
                <a:lnTo>
                  <a:pt x="25" y="29"/>
                </a:lnTo>
                <a:lnTo>
                  <a:pt x="8" y="29"/>
                </a:lnTo>
                <a:lnTo>
                  <a:pt x="8" y="43"/>
                </a:lnTo>
                <a:lnTo>
                  <a:pt x="2400" y="43"/>
                </a:lnTo>
                <a:lnTo>
                  <a:pt x="2408" y="43"/>
                </a:lnTo>
                <a:lnTo>
                  <a:pt x="2416" y="29"/>
                </a:lnTo>
                <a:lnTo>
                  <a:pt x="2416" y="0"/>
                </a:lnTo>
                <a:lnTo>
                  <a:pt x="2391" y="0"/>
                </a:lnTo>
                <a:lnTo>
                  <a:pt x="2391" y="29"/>
                </a:lnTo>
                <a:lnTo>
                  <a:pt x="2400" y="29"/>
                </a:lnTo>
                <a:lnTo>
                  <a:pt x="2400" y="21"/>
                </a:lnTo>
                <a:lnTo>
                  <a:pt x="8" y="21"/>
                </a:lnTo>
                <a:lnTo>
                  <a:pt x="0" y="21"/>
                </a:lnTo>
                <a:lnTo>
                  <a:pt x="0" y="29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05240" y="2255760"/>
            <a:ext cx="279360" cy="219240"/>
          </a:xfrm>
          <a:custGeom>
            <a:avLst/>
            <a:gdLst/>
            <a:ahLst/>
            <a:rect l="l" t="t" r="r" b="b"/>
            <a:pathLst>
              <a:path w="176" h="138">
                <a:moveTo>
                  <a:pt x="0" y="116"/>
                </a:moveTo>
                <a:lnTo>
                  <a:pt x="0" y="138"/>
                </a:lnTo>
                <a:lnTo>
                  <a:pt x="160" y="138"/>
                </a:lnTo>
                <a:lnTo>
                  <a:pt x="168" y="138"/>
                </a:lnTo>
                <a:lnTo>
                  <a:pt x="176" y="123"/>
                </a:lnTo>
                <a:lnTo>
                  <a:pt x="176" y="0"/>
                </a:lnTo>
                <a:lnTo>
                  <a:pt x="151" y="0"/>
                </a:lnTo>
                <a:lnTo>
                  <a:pt x="151" y="123"/>
                </a:lnTo>
                <a:lnTo>
                  <a:pt x="160" y="123"/>
                </a:lnTo>
                <a:lnTo>
                  <a:pt x="16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2255760"/>
            <a:ext cx="54000" cy="401760"/>
          </a:xfrm>
          <a:custGeom>
            <a:avLst/>
            <a:gdLst/>
            <a:ahLst/>
            <a:rect l="l" t="t" r="r" b="b"/>
            <a:pathLst>
              <a:path w="34" h="253">
                <a:moveTo>
                  <a:pt x="0" y="253"/>
                </a:moveTo>
                <a:lnTo>
                  <a:pt x="25" y="253"/>
                </a:lnTo>
                <a:lnTo>
                  <a:pt x="34" y="0"/>
                </a:lnTo>
                <a:lnTo>
                  <a:pt x="9" y="0"/>
                </a:lnTo>
                <a:lnTo>
                  <a:pt x="0" y="2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202716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23"/>
                </a:lnTo>
                <a:lnTo>
                  <a:pt x="8" y="137"/>
                </a:lnTo>
                <a:lnTo>
                  <a:pt x="25" y="144"/>
                </a:lnTo>
                <a:lnTo>
                  <a:pt x="934" y="144"/>
                </a:lnTo>
                <a:lnTo>
                  <a:pt x="951" y="137"/>
                </a:lnTo>
                <a:lnTo>
                  <a:pt x="960" y="123"/>
                </a:lnTo>
                <a:lnTo>
                  <a:pt x="960" y="21"/>
                </a:lnTo>
                <a:lnTo>
                  <a:pt x="951" y="7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96600" y="207324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Direc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97280" y="2657520"/>
            <a:ext cx="1523880" cy="218880"/>
          </a:xfrm>
          <a:custGeom>
            <a:avLst/>
            <a:gdLst/>
            <a:ahLst/>
            <a:rect l="l" t="t" r="r" b="b"/>
            <a:pathLst>
              <a:path w="960" h="138">
                <a:moveTo>
                  <a:pt x="25" y="0"/>
                </a:moveTo>
                <a:lnTo>
                  <a:pt x="8" y="8"/>
                </a:lnTo>
                <a:lnTo>
                  <a:pt x="0" y="22"/>
                </a:lnTo>
                <a:lnTo>
                  <a:pt x="0" y="116"/>
                </a:lnTo>
                <a:lnTo>
                  <a:pt x="8" y="130"/>
                </a:lnTo>
                <a:lnTo>
                  <a:pt x="25" y="138"/>
                </a:lnTo>
                <a:lnTo>
                  <a:pt x="934" y="138"/>
                </a:lnTo>
                <a:lnTo>
                  <a:pt x="951" y="130"/>
                </a:lnTo>
                <a:lnTo>
                  <a:pt x="960" y="116"/>
                </a:lnTo>
                <a:lnTo>
                  <a:pt x="960" y="22"/>
                </a:lnTo>
                <a:lnTo>
                  <a:pt x="951" y="8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83480" y="2703600"/>
            <a:ext cx="103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Gerencia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1360" y="2336760"/>
            <a:ext cx="1523880" cy="230400"/>
          </a:xfrm>
          <a:custGeom>
            <a:avLst/>
            <a:gdLst/>
            <a:ahLst/>
            <a:rect l="l" t="t" r="r" b="b"/>
            <a:pathLst>
              <a:path w="960" h="145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23"/>
                </a:lnTo>
                <a:lnTo>
                  <a:pt x="8" y="137"/>
                </a:lnTo>
                <a:lnTo>
                  <a:pt x="25" y="145"/>
                </a:lnTo>
                <a:lnTo>
                  <a:pt x="934" y="145"/>
                </a:lnTo>
                <a:lnTo>
                  <a:pt x="951" y="137"/>
                </a:lnTo>
                <a:lnTo>
                  <a:pt x="960" y="123"/>
                </a:lnTo>
                <a:lnTo>
                  <a:pt x="960" y="22"/>
                </a:lnTo>
                <a:lnTo>
                  <a:pt x="951" y="7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82680" y="2382840"/>
            <a:ext cx="98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Asesores leg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13200" y="2336760"/>
            <a:ext cx="1524240" cy="230400"/>
          </a:xfrm>
          <a:custGeom>
            <a:avLst/>
            <a:gdLst/>
            <a:ahLst/>
            <a:rect l="l" t="t" r="r" b="b"/>
            <a:pathLst>
              <a:path w="960" h="145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23"/>
                </a:lnTo>
                <a:lnTo>
                  <a:pt x="8" y="137"/>
                </a:lnTo>
                <a:lnTo>
                  <a:pt x="25" y="145"/>
                </a:lnTo>
                <a:lnTo>
                  <a:pt x="934" y="145"/>
                </a:lnTo>
                <a:lnTo>
                  <a:pt x="951" y="137"/>
                </a:lnTo>
                <a:lnTo>
                  <a:pt x="960" y="123"/>
                </a:lnTo>
                <a:lnTo>
                  <a:pt x="960" y="22"/>
                </a:lnTo>
                <a:lnTo>
                  <a:pt x="951" y="7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9440" y="2382840"/>
            <a:ext cx="91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Auditor 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968560"/>
            <a:ext cx="1511280" cy="193680"/>
          </a:xfrm>
          <a:custGeom>
            <a:avLst/>
            <a:gdLst/>
            <a:ahLst/>
            <a:rect l="l" t="t" r="r" b="b"/>
            <a:pathLst>
              <a:path w="952" h="122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1"/>
                </a:lnTo>
                <a:lnTo>
                  <a:pt x="8" y="115"/>
                </a:lnTo>
                <a:lnTo>
                  <a:pt x="25" y="122"/>
                </a:lnTo>
                <a:lnTo>
                  <a:pt x="926" y="122"/>
                </a:lnTo>
                <a:lnTo>
                  <a:pt x="943" y="115"/>
                </a:lnTo>
                <a:lnTo>
                  <a:pt x="952" y="101"/>
                </a:lnTo>
                <a:lnTo>
                  <a:pt x="952" y="21"/>
                </a:lnTo>
                <a:lnTo>
                  <a:pt x="943" y="7"/>
                </a:lnTo>
                <a:lnTo>
                  <a:pt x="926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880" y="2987640"/>
            <a:ext cx="132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Financiera y de Ries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2968560"/>
            <a:ext cx="1676160" cy="231840"/>
          </a:xfrm>
          <a:custGeom>
            <a:avLst/>
            <a:gdLst/>
            <a:ahLst/>
            <a:rect l="l" t="t" r="r" b="b"/>
            <a:pathLst>
              <a:path w="960" h="122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1"/>
                </a:lnTo>
                <a:lnTo>
                  <a:pt x="8" y="115"/>
                </a:lnTo>
                <a:lnTo>
                  <a:pt x="25" y="122"/>
                </a:lnTo>
                <a:lnTo>
                  <a:pt x="935" y="122"/>
                </a:lnTo>
                <a:lnTo>
                  <a:pt x="952" y="115"/>
                </a:lnTo>
                <a:lnTo>
                  <a:pt x="960" y="101"/>
                </a:lnTo>
                <a:lnTo>
                  <a:pt x="960" y="21"/>
                </a:lnTo>
                <a:lnTo>
                  <a:pt x="952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83880" y="3002040"/>
            <a:ext cx="177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Administración y Oper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26160" y="2968560"/>
            <a:ext cx="1511280" cy="193680"/>
          </a:xfrm>
          <a:custGeom>
            <a:avLst/>
            <a:gdLst/>
            <a:ahLst/>
            <a:rect l="l" t="t" r="r" b="b"/>
            <a:pathLst>
              <a:path w="952" h="122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1"/>
                </a:lnTo>
                <a:lnTo>
                  <a:pt x="8" y="115"/>
                </a:lnTo>
                <a:lnTo>
                  <a:pt x="25" y="122"/>
                </a:lnTo>
                <a:lnTo>
                  <a:pt x="926" y="122"/>
                </a:lnTo>
                <a:lnTo>
                  <a:pt x="943" y="115"/>
                </a:lnTo>
                <a:lnTo>
                  <a:pt x="952" y="101"/>
                </a:lnTo>
                <a:lnTo>
                  <a:pt x="952" y="21"/>
                </a:lnTo>
                <a:lnTo>
                  <a:pt x="943" y="7"/>
                </a:lnTo>
                <a:lnTo>
                  <a:pt x="926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5760" y="3002040"/>
            <a:ext cx="125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Productos y 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91240" y="2971800"/>
            <a:ext cx="1524240" cy="193680"/>
          </a:xfrm>
          <a:custGeom>
            <a:avLst/>
            <a:gdLst/>
            <a:ahLst/>
            <a:rect l="l" t="t" r="r" b="b"/>
            <a:pathLst>
              <a:path w="960" h="122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1"/>
                </a:lnTo>
                <a:lnTo>
                  <a:pt x="8" y="115"/>
                </a:lnTo>
                <a:lnTo>
                  <a:pt x="25" y="122"/>
                </a:lnTo>
                <a:lnTo>
                  <a:pt x="934" y="122"/>
                </a:lnTo>
                <a:lnTo>
                  <a:pt x="951" y="115"/>
                </a:lnTo>
                <a:lnTo>
                  <a:pt x="960" y="101"/>
                </a:lnTo>
                <a:lnTo>
                  <a:pt x="960" y="21"/>
                </a:lnTo>
                <a:lnTo>
                  <a:pt x="951" y="7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56360" y="29718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Small Fonts"/>
              </a:rPr>
              <a:t>Mipy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03320" y="3243240"/>
            <a:ext cx="1536840" cy="195120"/>
          </a:xfrm>
          <a:custGeom>
            <a:avLst/>
            <a:gdLst/>
            <a:ahLst/>
            <a:rect l="l" t="t" r="r" b="b"/>
            <a:pathLst>
              <a:path w="968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43" y="123"/>
                </a:lnTo>
                <a:lnTo>
                  <a:pt x="960" y="116"/>
                </a:lnTo>
                <a:lnTo>
                  <a:pt x="968" y="101"/>
                </a:lnTo>
                <a:lnTo>
                  <a:pt x="968" y="22"/>
                </a:lnTo>
                <a:lnTo>
                  <a:pt x="960" y="7"/>
                </a:lnTo>
                <a:lnTo>
                  <a:pt x="943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6000" y="327816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Tesor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3320" y="3552840"/>
            <a:ext cx="1536840" cy="195120"/>
          </a:xfrm>
          <a:custGeom>
            <a:avLst/>
            <a:gdLst/>
            <a:ahLst/>
            <a:rect l="l" t="t" r="r" b="b"/>
            <a:pathLst>
              <a:path w="968" h="123">
                <a:moveTo>
                  <a:pt x="25" y="0"/>
                </a:moveTo>
                <a:lnTo>
                  <a:pt x="8" y="8"/>
                </a:lnTo>
                <a:lnTo>
                  <a:pt x="0" y="22"/>
                </a:lnTo>
                <a:lnTo>
                  <a:pt x="0" y="102"/>
                </a:lnTo>
                <a:lnTo>
                  <a:pt x="8" y="116"/>
                </a:lnTo>
                <a:lnTo>
                  <a:pt x="25" y="123"/>
                </a:lnTo>
                <a:lnTo>
                  <a:pt x="943" y="123"/>
                </a:lnTo>
                <a:lnTo>
                  <a:pt x="960" y="116"/>
                </a:lnTo>
                <a:lnTo>
                  <a:pt x="968" y="102"/>
                </a:lnTo>
                <a:lnTo>
                  <a:pt x="968" y="22"/>
                </a:lnTo>
                <a:lnTo>
                  <a:pt x="960" y="8"/>
                </a:lnTo>
                <a:lnTo>
                  <a:pt x="943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96640" y="3587760"/>
            <a:ext cx="1226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Gestión de Inver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03320" y="4483080"/>
            <a:ext cx="1536840" cy="195120"/>
          </a:xfrm>
          <a:custGeom>
            <a:avLst/>
            <a:gdLst/>
            <a:ahLst/>
            <a:rect l="l" t="t" r="r" b="b"/>
            <a:pathLst>
              <a:path w="968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43" y="123"/>
                </a:lnTo>
                <a:lnTo>
                  <a:pt x="960" y="116"/>
                </a:lnTo>
                <a:lnTo>
                  <a:pt x="968" y="101"/>
                </a:lnTo>
                <a:lnTo>
                  <a:pt x="968" y="22"/>
                </a:lnTo>
                <a:lnTo>
                  <a:pt x="960" y="7"/>
                </a:lnTo>
                <a:lnTo>
                  <a:pt x="943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640" y="4518000"/>
            <a:ext cx="80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Gestión Ries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3320" y="4792680"/>
            <a:ext cx="1536840" cy="206280"/>
          </a:xfrm>
          <a:custGeom>
            <a:avLst/>
            <a:gdLst/>
            <a:ahLst/>
            <a:rect l="l" t="t" r="r" b="b"/>
            <a:pathLst>
              <a:path w="968" h="130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9"/>
                </a:lnTo>
                <a:lnTo>
                  <a:pt x="8" y="123"/>
                </a:lnTo>
                <a:lnTo>
                  <a:pt x="25" y="130"/>
                </a:lnTo>
                <a:lnTo>
                  <a:pt x="943" y="130"/>
                </a:lnTo>
                <a:lnTo>
                  <a:pt x="960" y="123"/>
                </a:lnTo>
                <a:lnTo>
                  <a:pt x="968" y="109"/>
                </a:lnTo>
                <a:lnTo>
                  <a:pt x="968" y="22"/>
                </a:lnTo>
                <a:lnTo>
                  <a:pt x="960" y="7"/>
                </a:lnTo>
                <a:lnTo>
                  <a:pt x="943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04720" y="482760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Plan.Financ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31840" y="3840120"/>
            <a:ext cx="1524240" cy="19548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35" y="123"/>
                </a:lnTo>
                <a:lnTo>
                  <a:pt x="952" y="116"/>
                </a:lnTo>
                <a:lnTo>
                  <a:pt x="960" y="101"/>
                </a:lnTo>
                <a:lnTo>
                  <a:pt x="960" y="22"/>
                </a:lnTo>
                <a:lnTo>
                  <a:pt x="952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3280" y="387504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Cobran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31840" y="4149720"/>
            <a:ext cx="1524240" cy="19512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35" y="123"/>
                </a:lnTo>
                <a:lnTo>
                  <a:pt x="952" y="116"/>
                </a:lnTo>
                <a:lnTo>
                  <a:pt x="960" y="101"/>
                </a:lnTo>
                <a:lnTo>
                  <a:pt x="960" y="22"/>
                </a:lnTo>
                <a:lnTo>
                  <a:pt x="952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88680" y="418464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Particip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64040" y="3243240"/>
            <a:ext cx="1536840" cy="206280"/>
          </a:xfrm>
          <a:custGeom>
            <a:avLst/>
            <a:gdLst/>
            <a:ahLst/>
            <a:rect l="l" t="t" r="r" b="b"/>
            <a:pathLst>
              <a:path w="968" h="130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9"/>
                </a:lnTo>
                <a:lnTo>
                  <a:pt x="8" y="123"/>
                </a:lnTo>
                <a:lnTo>
                  <a:pt x="25" y="130"/>
                </a:lnTo>
                <a:lnTo>
                  <a:pt x="943" y="130"/>
                </a:lnTo>
                <a:lnTo>
                  <a:pt x="960" y="123"/>
                </a:lnTo>
                <a:lnTo>
                  <a:pt x="968" y="109"/>
                </a:lnTo>
                <a:lnTo>
                  <a:pt x="968" y="22"/>
                </a:lnTo>
                <a:lnTo>
                  <a:pt x="960" y="7"/>
                </a:lnTo>
                <a:lnTo>
                  <a:pt x="943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42440" y="3278160"/>
            <a:ext cx="164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Sistema Información Geren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4040" y="3565440"/>
            <a:ext cx="1523880" cy="193680"/>
          </a:xfrm>
          <a:custGeom>
            <a:avLst/>
            <a:gdLst/>
            <a:ahLst/>
            <a:rect l="l" t="t" r="r" b="b"/>
            <a:pathLst>
              <a:path w="960" h="122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1"/>
                </a:lnTo>
                <a:lnTo>
                  <a:pt x="8" y="115"/>
                </a:lnTo>
                <a:lnTo>
                  <a:pt x="25" y="122"/>
                </a:lnTo>
                <a:lnTo>
                  <a:pt x="935" y="122"/>
                </a:lnTo>
                <a:lnTo>
                  <a:pt x="952" y="115"/>
                </a:lnTo>
                <a:lnTo>
                  <a:pt x="960" y="101"/>
                </a:lnTo>
                <a:lnTo>
                  <a:pt x="960" y="21"/>
                </a:lnTo>
                <a:lnTo>
                  <a:pt x="952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5640" y="359892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64040" y="3875040"/>
            <a:ext cx="1550880" cy="206280"/>
          </a:xfrm>
          <a:custGeom>
            <a:avLst/>
            <a:gdLst/>
            <a:ahLst/>
            <a:rect l="l" t="t" r="r" b="b"/>
            <a:pathLst>
              <a:path w="977" h="130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8"/>
                </a:lnTo>
                <a:lnTo>
                  <a:pt x="8" y="123"/>
                </a:lnTo>
                <a:lnTo>
                  <a:pt x="25" y="130"/>
                </a:lnTo>
                <a:lnTo>
                  <a:pt x="952" y="130"/>
                </a:lnTo>
                <a:lnTo>
                  <a:pt x="968" y="123"/>
                </a:lnTo>
                <a:lnTo>
                  <a:pt x="977" y="108"/>
                </a:lnTo>
                <a:lnTo>
                  <a:pt x="977" y="21"/>
                </a:lnTo>
                <a:lnTo>
                  <a:pt x="968" y="7"/>
                </a:lnTo>
                <a:lnTo>
                  <a:pt x="952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55440" y="390852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Sumin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4040" y="4195800"/>
            <a:ext cx="1536840" cy="195120"/>
          </a:xfrm>
          <a:custGeom>
            <a:avLst/>
            <a:gdLst/>
            <a:ahLst/>
            <a:rect l="l" t="t" r="r" b="b"/>
            <a:pathLst>
              <a:path w="968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43" y="123"/>
                </a:lnTo>
                <a:lnTo>
                  <a:pt x="960" y="116"/>
                </a:lnTo>
                <a:lnTo>
                  <a:pt x="968" y="101"/>
                </a:lnTo>
                <a:lnTo>
                  <a:pt x="968" y="22"/>
                </a:lnTo>
                <a:lnTo>
                  <a:pt x="960" y="7"/>
                </a:lnTo>
                <a:lnTo>
                  <a:pt x="943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27000" y="4230720"/>
            <a:ext cx="67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07160" y="3243240"/>
            <a:ext cx="1524240" cy="19512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34" y="123"/>
                </a:lnTo>
                <a:lnTo>
                  <a:pt x="951" y="116"/>
                </a:lnTo>
                <a:lnTo>
                  <a:pt x="960" y="101"/>
                </a:lnTo>
                <a:lnTo>
                  <a:pt x="960" y="22"/>
                </a:lnTo>
                <a:lnTo>
                  <a:pt x="951" y="7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3440" y="3278160"/>
            <a:ext cx="154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Desarrollo nuevos Produc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07160" y="3552840"/>
            <a:ext cx="1524240" cy="19512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8"/>
                </a:lnTo>
                <a:lnTo>
                  <a:pt x="0" y="22"/>
                </a:lnTo>
                <a:lnTo>
                  <a:pt x="0" y="102"/>
                </a:lnTo>
                <a:lnTo>
                  <a:pt x="8" y="116"/>
                </a:lnTo>
                <a:lnTo>
                  <a:pt x="25" y="123"/>
                </a:lnTo>
                <a:lnTo>
                  <a:pt x="934" y="123"/>
                </a:lnTo>
                <a:lnTo>
                  <a:pt x="951" y="116"/>
                </a:lnTo>
                <a:lnTo>
                  <a:pt x="960" y="102"/>
                </a:lnTo>
                <a:lnTo>
                  <a:pt x="960" y="22"/>
                </a:lnTo>
                <a:lnTo>
                  <a:pt x="951" y="8"/>
                </a:lnTo>
                <a:lnTo>
                  <a:pt x="9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0120" y="3587760"/>
            <a:ext cx="67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79960" y="4471920"/>
            <a:ext cx="1523880" cy="19548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7"/>
                </a:lnTo>
                <a:lnTo>
                  <a:pt x="0" y="21"/>
                </a:lnTo>
                <a:lnTo>
                  <a:pt x="0" y="101"/>
                </a:lnTo>
                <a:lnTo>
                  <a:pt x="8" y="115"/>
                </a:lnTo>
                <a:lnTo>
                  <a:pt x="25" y="123"/>
                </a:lnTo>
                <a:lnTo>
                  <a:pt x="935" y="123"/>
                </a:lnTo>
                <a:lnTo>
                  <a:pt x="952" y="115"/>
                </a:lnTo>
                <a:lnTo>
                  <a:pt x="960" y="101"/>
                </a:lnTo>
                <a:lnTo>
                  <a:pt x="960" y="21"/>
                </a:lnTo>
                <a:lnTo>
                  <a:pt x="952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71800" y="450540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Small Fonts"/>
              </a:rPr>
              <a:t>Servi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9960" y="4781520"/>
            <a:ext cx="1523880" cy="19512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35" y="123"/>
                </a:lnTo>
                <a:lnTo>
                  <a:pt x="952" y="116"/>
                </a:lnTo>
                <a:lnTo>
                  <a:pt x="960" y="101"/>
                </a:lnTo>
                <a:lnTo>
                  <a:pt x="960" y="22"/>
                </a:lnTo>
                <a:lnTo>
                  <a:pt x="952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93760" y="4816440"/>
            <a:ext cx="37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Small Fonts"/>
              </a:rPr>
              <a:t>Ev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8520" y="3162240"/>
            <a:ext cx="266760" cy="20808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8" y="131"/>
                </a:moveTo>
                <a:lnTo>
                  <a:pt x="168" y="109"/>
                </a:lnTo>
                <a:lnTo>
                  <a:pt x="8" y="109"/>
                </a:lnTo>
                <a:lnTo>
                  <a:pt x="8" y="116"/>
                </a:lnTo>
                <a:lnTo>
                  <a:pt x="25" y="116"/>
                </a:lnTo>
                <a:lnTo>
                  <a:pt x="25" y="0"/>
                </a:lnTo>
                <a:lnTo>
                  <a:pt x="0" y="0"/>
                </a:lnTo>
                <a:lnTo>
                  <a:pt x="0" y="116"/>
                </a:lnTo>
                <a:lnTo>
                  <a:pt x="0" y="131"/>
                </a:lnTo>
                <a:lnTo>
                  <a:pt x="8" y="131"/>
                </a:lnTo>
                <a:lnTo>
                  <a:pt x="168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08520" y="3233880"/>
            <a:ext cx="1524240" cy="195120"/>
          </a:xfrm>
          <a:custGeom>
            <a:avLst/>
            <a:gdLst/>
            <a:ahLst/>
            <a:rect l="l" t="t" r="r" b="b"/>
            <a:pathLst>
              <a:path w="960" h="123">
                <a:moveTo>
                  <a:pt x="25" y="0"/>
                </a:moveTo>
                <a:lnTo>
                  <a:pt x="8" y="7"/>
                </a:lnTo>
                <a:lnTo>
                  <a:pt x="0" y="22"/>
                </a:lnTo>
                <a:lnTo>
                  <a:pt x="0" y="101"/>
                </a:lnTo>
                <a:lnTo>
                  <a:pt x="8" y="116"/>
                </a:lnTo>
                <a:lnTo>
                  <a:pt x="25" y="123"/>
                </a:lnTo>
                <a:lnTo>
                  <a:pt x="935" y="123"/>
                </a:lnTo>
                <a:lnTo>
                  <a:pt x="951" y="116"/>
                </a:lnTo>
                <a:lnTo>
                  <a:pt x="960" y="101"/>
                </a:lnTo>
                <a:lnTo>
                  <a:pt x="960" y="22"/>
                </a:lnTo>
                <a:lnTo>
                  <a:pt x="951" y="7"/>
                </a:lnTo>
                <a:lnTo>
                  <a:pt x="935" y="0"/>
                </a:lnTo>
                <a:lnTo>
                  <a:pt x="25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77920" y="3276720"/>
            <a:ext cx="154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Small Fonts"/>
              </a:rPr>
              <a:t>Desarrollo nuevos Produc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286000"/>
            <a:ext cx="268200" cy="208080"/>
          </a:xfrm>
          <a:custGeom>
            <a:avLst/>
            <a:gdLst/>
            <a:ahLst/>
            <a:rect l="l" t="t" r="r" b="b"/>
            <a:pathLst>
              <a:path w="169" h="131">
                <a:moveTo>
                  <a:pt x="169" y="131"/>
                </a:moveTo>
                <a:lnTo>
                  <a:pt x="169" y="109"/>
                </a:lnTo>
                <a:lnTo>
                  <a:pt x="9" y="109"/>
                </a:lnTo>
                <a:lnTo>
                  <a:pt x="9" y="116"/>
                </a:lnTo>
                <a:lnTo>
                  <a:pt x="25" y="116"/>
                </a:lnTo>
                <a:lnTo>
                  <a:pt x="25" y="0"/>
                </a:lnTo>
                <a:lnTo>
                  <a:pt x="0" y="0"/>
                </a:lnTo>
                <a:lnTo>
                  <a:pt x="0" y="116"/>
                </a:lnTo>
                <a:lnTo>
                  <a:pt x="0" y="131"/>
                </a:lnTo>
                <a:lnTo>
                  <a:pt x="9" y="131"/>
                </a:lnTo>
                <a:lnTo>
                  <a:pt x="169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71500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Estratégico 2006-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24200"/>
            <a:ext cx="9144000" cy="0"/>
          </a:xfrm>
          <a:prstGeom prst="line">
            <a:avLst/>
          </a:prstGeom>
          <a:ln w="9360">
            <a:solidFill>
              <a:srgbClr val="fff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305240"/>
            <a:ext cx="9144000" cy="0"/>
          </a:xfrm>
          <a:prstGeom prst="line">
            <a:avLst/>
          </a:prstGeom>
          <a:ln w="9360">
            <a:solidFill>
              <a:srgbClr val="fff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54920" y="1863720"/>
            <a:ext cx="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175440"/>
            <a:ext cx="2667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www.cnd.org.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95480" y="1066680"/>
          <a:ext cx="3124440" cy="28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066680"/>
                    <a:ext cx="312444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838080" y="45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utura Lt BT"/>
              </a:rPr>
              <a:t>COMENZAMOS UNA NUEVA ETAP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4191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utura Lt BT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Futura Lt BT"/>
              </a:rPr>
              <a:t>AGRADECEMOS SU PRESENCIA Y LO INVI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Futura Lt BT"/>
              </a:rPr>
              <a:t>A TRABAJAR J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43800" y="0"/>
          <a:ext cx="1600200" cy="105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0"/>
                    <a:ext cx="16002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160" y="1144440"/>
            <a:ext cx="7829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Naturalez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Objetivos le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ccccff"/>
                </a:solidFill>
                <a:uFillTx/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Análisis F. O. D.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Resultados hist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ccccff"/>
                </a:solidFill>
                <a:uFillTx/>
                <a:latin typeface="Arial"/>
              </a:rPr>
              <a:t>Propue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Líneas d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Visión actual 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-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- Iniciativas en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- 40 acciones para una nueva C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Objetivos generale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Organi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1644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99"/>
                </a:solidFill>
                <a:latin typeface="Arial"/>
              </a:rPr>
              <a:t>Forma jurídica</a:t>
            </a:r>
            <a:r>
              <a:rPr b="0" i="1" lang="es-ES_tradnl" sz="2800" spc="-1" strike="noStrike">
                <a:solidFill>
                  <a:srgbClr val="000099"/>
                </a:solidFill>
                <a:latin typeface="Arial"/>
              </a:rPr>
              <a:t>: empresa de derecho público no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7632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Antecedentes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Naturalez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122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99"/>
                </a:solidFill>
                <a:latin typeface="Arial"/>
              </a:rPr>
              <a:t>Capital</a:t>
            </a:r>
            <a:r>
              <a:rPr b="0" i="1" lang="es-ES_tradnl" sz="2800" spc="-1" strike="noStrike">
                <a:solidFill>
                  <a:srgbClr val="000099"/>
                </a:solidFill>
                <a:latin typeface="Arial"/>
              </a:rPr>
              <a:t>: 100% estatal, con posibilidad legal de participación accionaria privada hasta en un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96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99"/>
                </a:solidFill>
                <a:latin typeface="Arial"/>
              </a:rPr>
              <a:t>Relaciones con terceros</a:t>
            </a:r>
            <a:r>
              <a:rPr b="0" i="1" lang="es-ES_tradnl" sz="2800" spc="-1" strike="noStrike">
                <a:solidFill>
                  <a:srgbClr val="000099"/>
                </a:solidFill>
                <a:latin typeface="Arial"/>
              </a:rPr>
              <a:t>: derecho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7632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Antecedentes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Objetiv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57280"/>
            <a:ext cx="84582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Incentivar el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esarrollo empresarial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, con participación del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sector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Crear, fortalecer y participar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en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Colaborar en ejecución de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 políticas económicas sectoriales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Fomentar la investigación, intercambio o incorporación de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Contribuir al desarrollo del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267080"/>
            <a:ext cx="83822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Nombrar Consejo Asesor en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Zonas Fran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Crear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Parques Industriales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Concesión de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rutas nacionales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(1600 km. de carreteras y pu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Concesión para la explotación de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vías férreas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(probable participación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7160" y="1144440"/>
            <a:ext cx="7829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ccccff"/>
                </a:solidFill>
                <a:uFillTx/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Naturalez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Objetivos le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Análisis F. O. D.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"/>
              </a:rPr>
              <a:t>Resultados hist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ccccff"/>
                </a:solidFill>
                <a:uFillTx/>
                <a:latin typeface="Arial"/>
              </a:rPr>
              <a:t>Propue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Líneas d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Visión actual 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-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- Iniciativas en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- 40 acciones para una nueva C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Objetivos generale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ccff"/>
                </a:solidFill>
                <a:latin typeface="Arial"/>
              </a:rPr>
              <a:t>Organi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4920" y="1271520"/>
          <a:ext cx="8610480" cy="5052960"/>
        </p:xfrm>
        <a:graphic>
          <a:graphicData uri="http://schemas.openxmlformats.org/drawingml/2006/table">
            <a:tbl>
              <a:tblPr/>
              <a:tblGrid>
                <a:gridCol w="1904760"/>
                <a:gridCol w="2667240"/>
                <a:gridCol w="4038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s-MX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ctividades Bás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s-MX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tale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s-MX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b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 apalanc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jeto de créd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as de fondeo y bajo volumen de nego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didas oper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rtidumbre sobre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a de segundo pis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miento del mercado por parte de la C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miento del potencial de la CND por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isten criterios para cobrar los servicios pres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 How banca segundo p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ncia de Plan Estraté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ta de criterios técnicos y procedimientos para definir participación en las empr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encia de cultura de control interno y transparencia hacia el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jurídica en procesos recurr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eza juríd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anza polí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o 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es para ser articulador de proyectos público pr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estructura edilicia Monte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n pública CND (histor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ta definición de la estructura e insuficiencia de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 organizacional defic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e información gerencial débil y bases de datos insufic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ncia de infraestructura para descentr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57200" y="604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Fortalezas y de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Oportunidades y amena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676520"/>
            <a:ext cx="4033800" cy="4535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Crecimiento de la economía y estabilidad macroeconó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Promoción de la mejora del clima de negocios y el desarrollo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Aumento de la inversión, en particular la extranj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Impulso a los proyectos de participación público priv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Proyectos de mejora en la gestión del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Nueva ley de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Disponibilidad de fondos públicos e internacionales para el desarrollo empres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676520"/>
            <a:ext cx="410364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Mantenimiento de una visión equivocada de la CND por parte del sistema político y la sociedad en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Presiones para apoyar proyectos no v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Potenciales dificultades de coordinación con organizaciones públicas por la existencia de  una institucionalidad atomiz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440" y="12160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4760" y="12175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1685880"/>
          <a:ext cx="82296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85880"/>
                    <a:ext cx="82296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3434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Arial"/>
              </a:rPr>
              <a:t>Diagnóstico </a:t>
            </a:r>
            <a:br>
              <a:rPr sz="36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Resultados por año y acumulados</a:t>
            </a:r>
            <a:br>
              <a:rPr sz="2400"/>
            </a:br>
            <a:br>
              <a:rPr sz="2400"/>
            </a:b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99"/>
                </a:solidFill>
                <a:latin typeface="Arial"/>
              </a:rPr>
              <a:t>Millones de Dólares – Periodo 1986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5160" y="1949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4720" y="1949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8720" y="1949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29520" y="1949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9360" y="5514840"/>
            <a:ext cx="25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Resultados 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Resultados Acum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6600" y="335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6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5400" y="3554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44,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3630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47,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3160" y="3911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56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1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5562720"/>
            <a:ext cx="22860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5867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8:36:12Z</dcterms:created>
  <dc:creator/>
  <dc:description/>
  <dc:language>en-US</dc:language>
  <cp:lastModifiedBy>LAURA</cp:lastModifiedBy>
  <dcterms:modified xsi:type="dcterms:W3CDTF">2006-05-18T13:48:43Z</dcterms:modified>
  <cp:revision>308</cp:revision>
  <dc:subject/>
  <dc:title>Presentación de PowerPoint</dc:title>
</cp:coreProperties>
</file>