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9F7E-9773-4425-95FB-AD7BA3C7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FAF-CF50-4DB4-B9C0-EF8C3F21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3701-EC46-4700-894D-1C71872E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5AD0-614A-491B-811A-AE018981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93F-FB2B-4C0D-BD80-66F47C2A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9D9B-10BA-4341-B3BE-45780D54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050-1862-4126-AECC-8B018B7F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4051-1831-4206-81A9-0774C34C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6AC1-842F-47CF-9752-F8B8CA51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E21D-5AB8-4E57-B8DA-E30DE440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8D4A-D2E2-43BA-AA19-BE0617F4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B6BF-AB75-4D34-A94A-9CA673CE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C18B-E873-4A68-AFEC-0D31FA8ABEE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PLAN DE AHORRO Y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EFICIENCIA ENERGÉTICA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3080" y="7920"/>
            <a:ext cx="1871640" cy="52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10191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)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a los usuarios de locales comerciales, pueden mantener encendidos: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ipos eléctricos de exhibición para la venta;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 totalidad de la iluminación interior y de los estacionamientos;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avisos luminosos, incluidos los distintivos de las farmacias y comisarías;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cada vidriera o similar, más de 100 W en luce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24840" y="0"/>
            <a:ext cx="1019160" cy="609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7164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) ESTÁ PERMITIDO REALIZAR ESPECTÁCULOS DEPORTIVOS MASIVOS EN HORARIO NOCTURN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-198108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525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124840" y="0"/>
            <a:ext cx="10191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 LEVANTA LA MEDIDA DE INCREMENTO ADICIONAL DEL 5%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los clientes 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idenciales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uyo consumo mensual superara los 600 kWh (equivalente a $ 1800), a aplicarse únicamente sobre los kWh que superasen dicho consumo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 MEDIDA SE SUPRIME 21 DÍAS ANTES DE LO PREV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52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124840" y="0"/>
            <a:ext cx="10191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EN OCTUBRE DE 2006, SE REALIZARÁ UN 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SORTEO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QUE BENEFICIARÁ A 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1.000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CLIENTES RESIDENCIALES CUYO CONSUMO EN LOS MESES DE JUNIO, JULIO Y AGOSTO HAYA SIDO, POR LO MENOS, UN 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15% INFERIOR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AL PROMEDIO DE LOS CONSUMOS DE INVIERNO DE 2004 Y 2005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SE BONIFICARÁ A LOS CIENTES </a:t>
            </a:r>
            <a:br>
              <a:rPr sz="2400"/>
            </a:br>
            <a:r>
              <a:rPr b="1" lang="es-E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ON EL DOBLE DE LOS kWh AHORRADOS, LOS QUE SE DESCONTARÁN A PARTIR DE NOVIEMBRE 2006.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914400"/>
            <a:ext cx="7772400" cy="77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525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124840" y="0"/>
            <a:ext cx="10191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NUESTROS CLIENTE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su esfuerzo y compromiso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LOS COMUNICADORES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su apoyo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¡MUCHAS GRACIAS 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43000" y="5410080"/>
            <a:ext cx="274320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638680" y="5486400"/>
            <a:ext cx="21621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LA RESOLUCIÓN DEL MIEM DE 28/04/06 DISPUSO LA APLICACIÓN DE MEDIDAS DE AHORRO Y USO EFICIENTE DE ENERGÍA ELÉCTRICA: </a:t>
            </a:r>
            <a:br>
              <a:rPr sz="3200"/>
            </a:b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Obligatorias para el sector público, voluntarias para residencias y comer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3080" y="7920"/>
            <a:ext cx="1871640" cy="525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773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 RESOLUCIÓN DEL MIEM DE 29/05/06 DISPUSO LA APLICACIÓN D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UEVA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MEDIDAS DE AHORRO Y USO EFICIENTE DE ENERGÍA ELÉCTRICA: </a:t>
            </a:r>
            <a:br>
              <a:rPr sz="2400"/>
            </a:br>
            <a:br>
              <a:rPr sz="2400"/>
            </a:br>
            <a:br>
              <a:rPr sz="2000"/>
            </a:br>
            <a:r>
              <a:rPr b="1" lang="en-US" sz="24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1) Para todos los usuarios de energía suministrada por UTE</a:t>
            </a:r>
            <a:br>
              <a:rPr sz="2000"/>
            </a:br>
            <a:r>
              <a:rPr b="1" lang="en-US" sz="24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2) Para usuarios de locales comerciales, de servicios y similares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ASIMISMO, EL MIEM DISPUSO LA SUSPENSIÓN TRANSITORIA DE ESPECTÁCULOS DEPORTIVOS MASIVOS EN HORARIO NOCTUR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3080" y="7920"/>
            <a:ext cx="1871640" cy="525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10191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ICIONALMENTE: 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partir del 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5 de junio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y como máximo hasta el 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5 de setiembre de 2006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se fijó un incremento adicional del 5 % a los clientes 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idenciales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uyo consumo mensual superara los 600 kWh (equivalente a $ 1800), a aplicarse únicamente sobre los kWh que superasen dicho consumo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080" y="7920"/>
            <a:ext cx="1871640" cy="525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0191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valuación del Plan de Ahorro y Eficiencia Energética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MAND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L TOTAL DE CLIENTES 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ta alcanzada: 8%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ivale a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0 días de consumo promedio en invierno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central térmica (80 MW) encendida permanentemente: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 OTRA CENTRAL, LA CENTRAL DEL AHOR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3080" y="7920"/>
            <a:ext cx="1871640" cy="525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10191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 FUE NECESARIA NINGUNA SANCIÓN POR FALTA DE ACATAMIENTO A LAS MEDIDAS PROPUESTA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3080" y="7920"/>
            <a:ext cx="1871640" cy="525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10191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7543800" cy="67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OFERTA</a:t>
            </a:r>
            <a:br>
              <a:rPr sz="2800"/>
            </a:b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 puesta en operación de los primeros 100 MW de la 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ntral Térmica de respaldo de Punta del Tigre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y la entrada de los 100 MW restantes en días próximos. 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s 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luvias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caecidas en las últimas semanas mejoraron el nivel del embalse de Rincón del Bonete y permitieron incrementar la energía generada por 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alto Grande</a:t>
            </a: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 energía eléctrica que, en la medida de sus posibilidades, han aportado los </a:t>
            </a:r>
            <a:r>
              <a:rPr b="1" lang="es-E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íses vecinos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3080" y="7920"/>
            <a:ext cx="1871640" cy="525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10191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 PARTIR DEL 24 DE AGOSTO DE 2006, SE DEJA SIN EFECTO LA RESOLUCIÓN MINISTERIAL DEL 29 DE MAYO DEL 2006.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 SUPRIMEN LAS MEDIDAS DE MAYO DE 2006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3080" y="7920"/>
            <a:ext cx="1871640" cy="525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191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600" spc="-1" strike="noStrike"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360" y="533160"/>
            <a:ext cx="7467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Para todos los usuarios de energía suministrada por UTE: </a:t>
            </a:r>
            <a:br>
              <a:rPr sz="2400"/>
            </a:br>
            <a:r>
              <a:rPr b="1" lang="es-ES" sz="2400" spc="-1" strike="noStrike">
                <a:solidFill>
                  <a:srgbClr val="ffff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Se habilita la totalidad de los ascensores por cuerpo de edific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b) Está permitido el funcionamiento de todas las escaleras mecánicas existentes en el luga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c) Se puede encender cualquier tipo de iluminación en porches, fachadas, hall de entrada de edificios, jardines o retiros frontales, con propósitos decorativos; incluyendo a aquella imprescindible por razones de seguridad.</a:t>
            </a:r>
            <a:r>
              <a:rPr b="0" lang="es-ES" sz="2000" spc="-1" strike="noStrike">
                <a:solidFill>
                  <a:srgbClr val="ffff00"/>
                </a:solidFill>
                <a:latin typeface="Book Antiqua"/>
                <a:ea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1640" cy="525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124840" y="0"/>
            <a:ext cx="10191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9:49:53Z</dcterms:created>
  <dc:creator>María José Larre Borges</dc:creator>
  <dc:description/>
  <dc:language>en-US</dc:language>
  <cp:lastModifiedBy>Administrador</cp:lastModifiedBy>
  <dcterms:modified xsi:type="dcterms:W3CDTF">2006-08-23T16:56:56Z</dcterms:modified>
  <cp:revision>43</cp:revision>
  <dc:subject/>
  <dc:title>Ante la Mejora en el riesgo de suministro:   DEMANDA: levantamiento de mayoría de medidas dispuestas por el MIEM. OFERTA: puesta en marcha de la Central de Punta del Tigre </dc:title>
</cp:coreProperties>
</file>