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FCA-5B5F-4A41-B3AE-2180CB7F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F0C-FC6F-4819-BE1F-B62B935B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223-A0AC-4172-A776-43A93A03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BFB-D946-4266-9892-296C0F07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CC14-A639-40C1-A3B5-B3EF5FD0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6E62-3861-4C4B-BA33-3CB48340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C916-3F33-40FD-A246-8E2CC407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A1D5-44D7-4EBF-87CE-1D8BF211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C485-3737-4DAB-A733-594CBBB1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5406-FAAA-4669-BDD1-557B1CD2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4306-72EC-47BB-8D60-F13CF21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7C2-A6B4-4C23-B628-4DBA1437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974D-1054-4C60-B4D8-3E322044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667C-11AA-4980-B4C9-6D91E6E9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6185-A2FE-4A4A-B151-94EC0C9F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FDDE-4131-47B4-AD17-6804926B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B3DB-1FA4-4A45-A62F-DC9576A3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72F-7D73-42D2-B81B-191AA955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28B-4563-414F-A6CC-69BC6692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1DB-58F2-4A95-A2B9-0931E5CD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E2F-6592-4007-B0B4-0D3366B9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491-AE75-4DC2-B004-EF1F3937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757-3784-441E-919E-52D6E51E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6FF-3C2E-42FB-A57C-DCBD7573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F441-131B-47EE-989E-B2178B4C6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5E7A-A436-4071-BB83-2C04E423A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LA REFORMA TRIBUTARIA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62120" y="4267080"/>
            <a:ext cx="769608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erio de Economía y Finanz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 de noviembre de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RENTAS DE CAPIT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alías, arrendamientos, intereses, ganancias de capital y similares: 12% propor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onera deuda pública y resultados de fon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% a intereses de depósitos a menos de un año en moneda nacional sin reaju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% a intereses de depósitos a más de un año en moneda nacional o en UI y emisiones privadas a más de 3 añ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% a dividendos distribu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RENTAS DEL TRABAJO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sas progresionales aplicables a cada tramo de ingresos con mínimo no imponib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sta 60 BPC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e 60 y 120 BPC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e 120 y 180 BPC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e 180 y 600 BPC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e 600 y 1200 BPC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2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ás de 1200 BPC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RENTAS DEL TRABAJO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ducciones propue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to mínimo no impon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ortes jubilato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ndo de Reconversión Labo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ndo de Solidar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ctos por salud por hijos menores y jubi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ionales: deducción ficta del 3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IMPOSICIÓN AL CONSUMO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ción de las tasas del 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ásica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2% hacia el 2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ínima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icaciones de la base impon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mantienen exoneraciones de un número limitado de bienes y 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OTROS ASPECTOS TRIBUTARIO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esidentes: 12% sobre el ingreso bruto con régimen de excepciones de rentas del cap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imonio: se mantiene régimen para empresas y se reduce gradualmente para perso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ESI: adecuación de estructura gradual, sin que implique menor recau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ASPECTOS ADICIONALE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ción de nuevas SAFI y adecuación de las actuales al régimen de sociedades para el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mantienen criterios básicos de secreto banc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ortes patronales: 7,5% para industria, comercio, servicios y empresas públicas no financieras. En sector agropecuario, en base a superfic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ASPECTOS ADICIONALE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tensión del régimen del Monotributo a efectos de contribuir a la formalización de unidades productivas pequeñ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sa de control del marco regulatorio en el sistema financiero sobre las actividades de las empresas financie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ONSIDERACIONES ADICIONALE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nores tasas, mayor simplicidad, más equidad sectorial y facilidad de contralor promueven formalización de la economía y desestimulan la eva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quidad sectorial y de fuentes de rentas reduce perforaciones y facilita transparencia del 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RESPONSABILIDAD FISC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foque dinámico: cumplir las funciones del Estado, sin congelar el esquema tribut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edida que los ingresos lo permit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minar más impuestos distors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minar tributos específicos del sector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minuir transferencias de las empresas públ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ir tasa básica del IVA al 2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LAN DE LA PRESENTACIÓ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bjetivos y pilares de la ref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incipales lineamientos de la ref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gunos impactos estim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Los equilibrios neces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LAN DE LA PRESENTACIÓ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tivos y pilares de la ref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cipales lineamientos de la ref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unos impactos estim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 equilibrios neces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ERSPECTIVA HISTÓRIC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447920" y="1447920"/>
          <a:ext cx="7086600" cy="472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447920"/>
                    <a:ext cx="7086600" cy="47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ERSPECTIVA HISTÓRIC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62120" y="1447920"/>
          <a:ext cx="8229600" cy="4733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447920"/>
                    <a:ext cx="8229600" cy="47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981080" y="4495680"/>
            <a:ext cx="1905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IVA MÍNI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74320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IVA BÁS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371808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COF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274320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COF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ERSPECTIVA HISTÓRIC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066680" y="1484280"/>
          <a:ext cx="7315200" cy="468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84280"/>
                    <a:ext cx="73152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STIMACIONES DE RECAUDACIÓ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770040" y="1527120"/>
          <a:ext cx="7916760" cy="4613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1527120"/>
                    <a:ext cx="791676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STIMACIONES DE RECAUDACIÓ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50920" y="1598760"/>
          <a:ext cx="8896320" cy="4421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598760"/>
                    <a:ext cx="889632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TASA EFECTIVA DEL IRPF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143000" y="1447920"/>
          <a:ext cx="7238880" cy="473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447920"/>
                    <a:ext cx="7238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DISTRIBUCIÓN DEL IRPF POR DECI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447920" y="1523880"/>
          <a:ext cx="6933960" cy="4721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523880"/>
                    <a:ext cx="693396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DISTRIBUCIÓN CARGA TRIBUTAR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828800" y="1447920"/>
          <a:ext cx="6172200" cy="4755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447920"/>
                    <a:ext cx="617220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MBIOS EN INGRESO DISPONIBL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295280" y="1494000"/>
          <a:ext cx="6934320" cy="4678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494000"/>
                    <a:ext cx="693432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RGA TRIBUTARIA SOBRE INGRESO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371600" y="1422360"/>
          <a:ext cx="7315200" cy="4749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422360"/>
                    <a:ext cx="731520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LAN DE LA PRESENTACIÓ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jetivos y pilares de la ref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incipales lineamientos de la ref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lgunos impactos estim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Los equilibrios neces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GANADORES NETOS DE LA REFORM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143000" y="1471680"/>
          <a:ext cx="7772400" cy="475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471680"/>
                    <a:ext cx="77724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GANADORES NETOS DE LA REFORM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371600" y="1465200"/>
          <a:ext cx="7391520" cy="470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4652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5562720" y="2286000"/>
            <a:ext cx="75960" cy="2514600"/>
          </a:xfrm>
          <a:custGeom>
            <a:avLst/>
            <a:gdLst>
              <a:gd name="textAreaLeft" fmla="*/ 0 w 75960"/>
              <a:gd name="textAreaRight" fmla="*/ 27360 w 759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3276720"/>
            <a:ext cx="83844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4800600"/>
            <a:ext cx="75960" cy="99072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5105520"/>
            <a:ext cx="83808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IRPF EN PASIVIDADES DEL BP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orción de pasividades por debajo de 6 BPC (no pagan IRPF): 83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orción de pasividades que pagan IRPF con tasa efectiva menor a 2% (equivalente IRP): 7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 90% de las pasividades del BPS pagarán menos impuesto a la r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IMPACTO SOBRE EL EMPLEO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1629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efecto de la reducción de aportes patronales a la seguridad soci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o del empleo de 1.3% en el sector Comercio, Restaurantes y Hot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o del empleo de 2.6% en el sector 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re ambos sectores, alrededor de 10.000 nuevos puestos de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LAN DE LA PRESENTACIÓ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bjetivos y pilares de la ref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incipales lineamientos de la ref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lgunos impactos estim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s equilibrios neces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QUILIBRIO I: OBJETIVOS DIVERSO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971800" y="1600200"/>
            <a:ext cx="3429000" cy="1981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4038480"/>
            <a:ext cx="3429000" cy="1828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ó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10080" y="4038480"/>
            <a:ext cx="3429000" cy="1828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ÍMU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ro-Inv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4800600"/>
            <a:ext cx="838440" cy="533520"/>
          </a:xfrm>
          <a:prstGeom prst="leftRightArrow">
            <a:avLst>
              <a:gd name="adj1" fmla="val 50000"/>
              <a:gd name="adj2" fmla="val 3128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3600000">
            <a:off x="5715000" y="342864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8000000">
            <a:off x="2742840" y="34290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9900"/>
                </a:solidFill>
                <a:latin typeface="Times New Roman"/>
              </a:rPr>
              <a:t>EQUILIBRIO II: DISEÑO E IMPLEMENTACIÓN</a:t>
            </a:r>
            <a:endParaRPr b="0" lang="en-US" sz="3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2971800" y="1600200"/>
            <a:ext cx="3429000" cy="1981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NI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tivos dive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4038480"/>
            <a:ext cx="3581280" cy="1828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cidad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038480"/>
            <a:ext cx="3429000" cy="1828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AU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ficiencia (no ajus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4800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3600000">
            <a:off x="5715000" y="342864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8000000">
            <a:off x="2742840" y="34290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QUILIBRIO III: REFORMA Y PROCESO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2514600" y="1600200"/>
            <a:ext cx="4191120" cy="1981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NTO DE PART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stema vi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038480"/>
            <a:ext cx="3581280" cy="1828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4038480"/>
            <a:ext cx="3733920" cy="1828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REF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O PROC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4800600"/>
            <a:ext cx="1219320" cy="533520"/>
          </a:xfrm>
          <a:prstGeom prst="leftRightArrow">
            <a:avLst>
              <a:gd name="adj1" fmla="val 50000"/>
              <a:gd name="adj2" fmla="val 4549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3600000">
            <a:off x="5943600" y="342864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8000000">
            <a:off x="2438280" y="3429000"/>
            <a:ext cx="838080" cy="533160"/>
          </a:xfrm>
          <a:prstGeom prst="leftRightArrow">
            <a:avLst>
              <a:gd name="adj1" fmla="val 50000"/>
              <a:gd name="adj2" fmla="val 3129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LA REFORMA TRIBUTARIA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762120" y="4267080"/>
            <a:ext cx="769608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erio de Economía y Finanz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 de noviembre de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LOS OBJETIVOS DE LA REFORM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6629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or equ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or efici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ímulo a la inversión productiva y al empl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LOS PILARES DE LA REFORM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icación de la estructura imposi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cionalización de la base tribu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ción del Impuesto a la Renta de las Personas Fís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foque dinámico de responsabilidad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LAN DE LA PRESENTACIÓ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bjetivos y pilares de la ref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incipales lineamientos de la ref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lgunos impactos estim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Los equilibrios neces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LINEAMIENTOS DE LA REFORM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minación de quince impuestos al momento de la vigencia de la refor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22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P, COFIS, IMABA, ICOSIFI, IMESSA, IMPEQUE, Comisiones, ITEL, Tarjetas de crédito, Ventas forzadas, IRIC, IRA, Deportistas, Compraventa en remate público y Sorteos y competenc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RENTA EMPRESARI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2800" indent="-44280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vará rentas de empresas y sociedades comerciales: 25% sobre renta n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2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2800" indent="-44280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ímenes simplificados para PYMES y contribuyentes agropec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2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2800" indent="-44280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eccionamiento de estímulos a la reinversión y a la inversión de larg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RENTA DE LAS PERSONAS FÍSICA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égimen integral que incluye rentas que actualmente no tributan: cultura tributaria basada en capacidad contribu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tema dual: rentas de capital y del 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4:04:10Z</dcterms:created>
  <dc:creator>RGomez</dc:creator>
  <dc:description/>
  <dc:language>en-US</dc:language>
  <cp:lastModifiedBy>gantunez</cp:lastModifiedBy>
  <cp:lastPrinted>2006-10-25T17:45:13Z</cp:lastPrinted>
  <dcterms:modified xsi:type="dcterms:W3CDTF">2006-11-14T21:10:55Z</dcterms:modified>
  <cp:revision>117</cp:revision>
  <dc:subject/>
  <dc:title>Sin título de diapositiva</dc:title>
</cp:coreProperties>
</file>